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A4149-D6B8-46F5-A353-13BCDD6A4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5EE6-C3C1-4719-8E57-4F7B47F1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ED873BAE-1954-4220-A747-6673CE04FF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F5877313-41AC-4BB1-BAA5-FA40131F77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C493A3EA-3E2F-4976-B83C-0B097AF24D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AB59E0A6-3C17-458C-81A8-348D13351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3317457F-8230-4E15-99E5-E4AFED7D4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CE7DA2CA-45F2-4BA3-96C7-6B8F7DDF0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2F6B9724-34A8-49B8-8BD7-951D3CB59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4"/>
          </p:nvPr>
        </p:nvSpPr>
        <p:spPr/>
        <p:txBody>
          <a:bodyPr/>
          <a:p>
            <a:fld id="{0650FABA-2094-4791-AE84-26E918EE5D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4"/>
          </p:nvPr>
        </p:nvSpPr>
        <p:spPr/>
        <p:txBody>
          <a:bodyPr/>
          <a:p>
            <a:fld id="{C248125A-E393-4E26-84DB-16185D2BA8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7"/>
          </p:nvPr>
        </p:nvSpPr>
        <p:spPr/>
        <p:txBody>
          <a:bodyPr/>
          <a:p>
            <a:fld id="{A52138B7-54D0-45E4-8A87-7A15A48FE6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B4B7C-7B18-40FB-BD66-2887DCC0E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D5B45A88-3FF6-49FE-A2EE-5DC2FFE070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C82EC8DC-30A8-4C79-A488-66EC057E1F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DCE251A2-04F8-4811-A748-B269A815D5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249F2F8D-B14E-4485-B6F0-B92304742A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63A24C7D-7026-4D84-8246-A09DBC4286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982827C3-8666-4FAC-A48C-58FFEAFBF2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F8B75DB3-4B4A-48AE-9731-8779295E39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25DB4356-9084-44EA-ABFA-8F72A29873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264EAD4F-EDB8-4E30-BAFC-27D68E2F62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7"/>
          </p:nvPr>
        </p:nvSpPr>
        <p:spPr/>
        <p:txBody>
          <a:bodyPr/>
          <a:p>
            <a:fld id="{951EF78A-1653-47A2-B418-01C2E1D951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73F1A-28D2-4454-8348-B6C26F72F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7"/>
          </p:nvPr>
        </p:nvSpPr>
        <p:spPr/>
        <p:txBody>
          <a:bodyPr/>
          <a:p>
            <a:fld id="{616FCDBB-C2DF-46B2-988B-B20AE3BCC1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E772FEB-70B9-496E-BCF2-F2C683379A5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61E67AE-39D7-4937-94F3-4EC14FE7AF7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1FEA79D-670F-4C73-8C55-CB746DF37E8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51E3DC1-02EF-430C-B024-1F609755D0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B8380BC-247F-41E0-9F5F-093187319BD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9FEBF55-3E60-4FD2-8AF1-F022284E987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AB6738-856B-4721-A479-908A5062A9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CD5082-57AA-40A8-B0AC-DEE99C1F2B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009181A-08F6-4C2E-BCAC-B92D20F28D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EB90E5-6FD4-4CF5-BB2E-FDFC62E65C8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E6DDFBD-E4D1-435A-B0A7-EC4BB1FFF89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A0388AF-A4A5-4CF7-ACF3-E07BEA7D03B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3"/>
          </p:nvPr>
        </p:nvSpPr>
        <p:spPr/>
        <p:txBody>
          <a:bodyPr/>
          <a:p>
            <a:fld id="{FB3D235F-0805-456F-84FF-D56D538756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1DB3F277-39A3-4026-8640-12A1D887D2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F39FF9E9-90C6-4513-9E30-79295E4D72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324D242A-383D-4BF3-9962-37B4919707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F11C78B7-FCDA-4D60-B9F6-D55D0B54BD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14286747-846B-4932-9DAD-F38BAB07C0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7913DD0D-E034-4AEC-A7E7-8C2F9E8B5F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6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A8AF6858-CF2B-45EE-9549-C205D78308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8CF75A4A-E2F7-473B-8165-F5952FB304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F849BA18-6CE4-46E3-86B6-248D26990E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3"/>
          </p:nvPr>
        </p:nvSpPr>
        <p:spPr/>
        <p:txBody>
          <a:bodyPr/>
          <a:p>
            <a:fld id="{3449B503-8EC9-4282-B770-63AD90E5184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5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3"/>
          </p:nvPr>
        </p:nvSpPr>
        <p:spPr/>
        <p:txBody>
          <a:bodyPr/>
          <a:p>
            <a:fld id="{B57B5500-35DC-4B1F-8573-D6A7B75EC6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6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6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0899B-9B22-40F7-9DA5-C06265D07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8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9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225666-510A-4AE9-90E2-A240516552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1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C14013-3D31-46A5-BEA1-B50E65A587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1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2659E2-2186-4AA6-A3C0-328005B85D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1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A703BD-E0B9-4E69-94B2-DC9E4A9F48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78E329-18B7-4830-ADE1-8FA3F8DC69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84A1-C8F5-4709-B7E0-C13CF46B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BBB788-4986-42D6-B2C4-49C40E31B9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C4E3B8-0777-4888-9E5E-568BFB61E1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369279-DBE7-4AD7-A9CF-F776A62027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F2DF8E-D95E-4D9F-B517-FCA418B3C1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3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480524-046A-4B61-A5B6-372666F935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7ADFF1-F8E6-4E4F-92C0-32072336B7B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4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B2C0B4-2AD1-4E58-A53F-29D941676EC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1"/>
          </p:nvPr>
        </p:nvSpPr>
        <p:spPr/>
        <p:txBody>
          <a:bodyPr/>
          <a:p>
            <a:fld id="{BAFC91F9-F171-4C4A-B978-EBA20DCCF1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0CA72CC5-E83D-4953-B12E-A0C53C95C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FEFDE01D-3BE8-4CFB-8022-A821A7EA3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4AA7-BD43-46B9-AF05-865E6E9B3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73F0FCD3-4120-46CB-9E5B-6E709767E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7BA0B5F4-EEAA-4B66-86C3-FBE09884D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7D69FD5F-1E42-474D-8933-9E00D1EA1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FA5B7AB8-D984-49CB-9367-9EFC210C6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A8AA545D-AFC5-4563-9ED2-58646EE42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36BFF32B-0683-43F9-90AF-82DA60401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0D61C529-63DB-4BE8-A251-7DF0E7816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1"/>
          </p:nvPr>
        </p:nvSpPr>
        <p:spPr/>
        <p:txBody>
          <a:bodyPr/>
          <a:p>
            <a:fld id="{23EF67DA-FA96-4346-9DE5-700EF3401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1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1"/>
          </p:nvPr>
        </p:nvSpPr>
        <p:spPr/>
        <p:txBody>
          <a:bodyPr/>
          <a:p>
            <a:fld id="{28762497-7552-436C-891F-12B4EFE89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0B46B24-72E1-4EDE-BEAB-3DB12535FFA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C41C-FAEF-4C41-935A-75BE8802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1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F52EEC-9DDE-4693-9C85-1601ED4FF7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1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3AB212-D6FB-4BDB-A104-6236244861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2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9C58E02-215B-488E-A9B7-E8B077D786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2EE356-B842-4671-B9FF-A37EB0CA76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119D69-1A42-4C28-990C-22F135AABC6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746ECC-F60F-4A7E-BF38-D68F94C4EA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CEA271-D177-43CB-9A03-45A6DFC821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182C5F-0B55-4D2F-8380-231FA28AF9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3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75F498-BF14-4E43-BF21-68E4D04AAF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4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FB54691-ED36-467F-A823-CB6709AAA5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AF6E0-05D8-4663-A069-BD4E6954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4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37C498-CAB0-4129-925C-DC7424D0158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9A6D8F-1711-411A-A35F-ECABDF2165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D973FE-BED8-4F7A-824E-8667AC7D36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E1E7B1C-261C-46B9-BAD6-7BABFBF508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36517D-6383-4DD7-AAFB-0446786166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6EA985-8DA8-4D8E-8682-1DD01DC69E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5EACB9F-B2C3-4679-934D-79D4479D55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A71236-A6FB-4958-BDEF-0843B0A5DF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59A181-BE9E-40DB-81C4-02C80605B7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42425D-AA7D-4FE4-808E-6C758882C9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8F14-1A2A-4A4B-8E2D-DE5253AE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608664-5773-46C7-84DC-69FC97A9E1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0DE4D45-F04E-4BAF-99B9-E274942A9EA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1EFA76-2284-4DBB-B908-631A11EFE92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871063-0ABC-4D77-BF49-9109FB09D2D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E27889-6036-4F35-82BD-590077C0BB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DFD865-903F-4DA8-9BEB-1DEA629283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C656AA6-C90B-49AA-9098-9A2E22B943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25ACCB-E130-4BA9-8809-EBC7572D3E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0326C4E-DFFF-4747-9AFA-3F51BAC902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387B9C-2EEB-4DAC-B596-A6613B4CF7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CB5C-576E-4DE2-9A7B-EF70F0E6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F66447-A492-44DE-861F-F955945B3D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EAF8C4-633D-4FA9-B1C1-52A74F9E88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367FE1E-A584-4364-B3CB-4CDDF5AC654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541689F-7D6E-4BED-B154-560E6B4D095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0FA3B2B-D18A-4121-88CE-35E53A83D40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5495F15-3633-42DC-BE23-8031784D254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EF2CAB-317B-4F99-916B-74354EB815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C0CABD6-F4D2-46A4-9F98-F40EAA8D3A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16426C-002A-4398-9442-A237459C6F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954057-A9D9-400A-B6CA-1167F6D27B6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3D11-1BA7-4237-BD05-60F8B077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884B7B-799B-4BF8-8FF3-FA304AB1038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9F9812-C5EC-480D-9ACD-D6D680871C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3C78DF-584D-4022-A90B-3CD59D1AE2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EC491F-A695-4D1F-9FBC-9A9F7F083CE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C2EBD67-D0E7-4988-9772-E25053A07F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54BE56C-00AE-4BA9-B6C7-5254165F0A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3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419206B-FD2C-4C92-A498-5A701D38B46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4"/>
          </p:nvPr>
        </p:nvSpPr>
        <p:spPr/>
        <p:txBody>
          <a:bodyPr/>
          <a:p>
            <a:fld id="{7EF4996C-6178-4575-8B6B-3EDD603E0A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1BF27283-61A4-4DFF-8DC4-60BE23481C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8a44d"/>
              </a:solidFill>
              <a:latin typeface="Georgia"/>
            </a:endParaRPr>
          </a:p>
        </p:txBody>
      </p:sp>
      <p:sp>
        <p:nvSpPr>
          <p:cNvPr id="4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7ED00F70-DA8D-40E7-A47D-A51F191C78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FE0E-17AE-4FE6-8A8F-B16AC55234EE}"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E335-5632-4040-97E6-E5375F52AE96}"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19 Conector recto"/>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152280" y="152280"/>
            <a:ext cx="8832960" cy="30168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609480"/>
            <a:ext cx="2743200" cy="5867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390680" y="324000"/>
            <a:ext cx="419040" cy="4190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4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6" name="PlaceHolder 3"/>
          <p:cNvSpPr>
            <a:spLocks noGrp="1"/>
          </p:cNvSpPr>
          <p:nvPr>
            <p:ph type="sldNum" idx="27"/>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FE40-EB41-4C35-8CC4-6CBB484503E0}"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
        <p:nvSpPr>
          <p:cNvPr id="467" name="PlaceHolder 4"/>
          <p:cNvSpPr>
            <a:spLocks noGrp="1"/>
          </p:cNvSpPr>
          <p:nvPr>
            <p:ph type="dt" idx="28"/>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4B0B-9DA9-4804-ABCD-0DC8EE8AB993}"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8" name="PlaceHolder 5"/>
          <p:cNvSpPr>
            <a:spLocks noGrp="1"/>
          </p:cNvSpPr>
          <p:nvPr>
            <p:ph type="ftr" idx="2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9 Conector recto"/>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4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5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6" name="PlaceHolder 3"/>
          <p:cNvSpPr>
            <a:spLocks noGrp="1"/>
          </p:cNvSpPr>
          <p:nvPr>
            <p:ph type="dt" idx="3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0191-0126-40D0-ADED-F068FB88603E}"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7" name="PlaceHolder 4"/>
          <p:cNvSpPr>
            <a:spLocks noGrp="1"/>
          </p:cNvSpPr>
          <p:nvPr>
            <p:ph type="ftr" idx="3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3181-7BF0-404A-80FB-1BC59D963675}"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146160" y="6391440"/>
            <a:ext cx="8832600" cy="30924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Conector recto"/>
          <p:cNvSpPr/>
          <p:nvPr/>
        </p:nvSpPr>
        <p:spPr>
          <a:xfrm>
            <a:off x="7143840" y="155520"/>
            <a:ext cx="0" cy="624528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28 Elipse"/>
          <p:cNvSpPr/>
          <p:nvPr/>
        </p:nvSpPr>
        <p:spPr>
          <a:xfrm>
            <a:off x="6934320" y="3021120"/>
            <a:ext cx="420480" cy="4190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5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6" name="PlaceHolder 3"/>
          <p:cNvSpPr>
            <a:spLocks noGrp="1"/>
          </p:cNvSpPr>
          <p:nvPr>
            <p:ph type="sldNum" idx="33"/>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7EFD-BEAA-40C7-B26A-874E71840CA1}"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
        <p:nvSpPr>
          <p:cNvPr id="567" name="PlaceHolder 4"/>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D0B0-7C9D-4FE3-A890-51D69EE8920C}"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8" name="PlaceHolder 5"/>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3 Rectángulo"/>
          <p:cNvSpPr/>
          <p:nvPr/>
        </p:nvSpPr>
        <p:spPr>
          <a:xfrm>
            <a:off x="0" y="0"/>
            <a:ext cx="9144000" cy="407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4 Rectángulo"/>
          <p:cNvSpPr/>
          <p:nvPr/>
        </p:nvSpPr>
        <p:spPr>
          <a:xfrm>
            <a:off x="146160" y="6391440"/>
            <a:ext cx="8832600" cy="30924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5 Conector recto"/>
          <p:cNvSpPr/>
          <p:nvPr/>
        </p:nvSpPr>
        <p:spPr>
          <a:xfrm>
            <a:off x="155520" y="407196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6 Rectángulo"/>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7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Elipse"/>
          <p:cNvSpPr/>
          <p:nvPr/>
        </p:nvSpPr>
        <p:spPr>
          <a:xfrm>
            <a:off x="4362480" y="3857760"/>
            <a:ext cx="419040" cy="42048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625C-6234-4B91-968D-54E38CBD07FC}"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9"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8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9 Conector recto"/>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1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0" name="PlaceHolder 3"/>
          <p:cNvSpPr>
            <a:spLocks noGrp="1"/>
          </p:cNvSpPr>
          <p:nvPr>
            <p:ph type="dt" idx="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6E64-DE47-4A44-B443-D30DB9D1E773}"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1" name="PlaceHolder 4"/>
          <p:cNvSpPr>
            <a:spLocks noGrp="1"/>
          </p:cNvSpPr>
          <p:nvPr>
            <p:ph type="ftr" idx="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8"/>
          </p:nvPr>
        </p:nvSpPr>
        <p:spPr>
          <a:xfrm>
            <a:off x="435780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1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6030-ED3F-4390-81C7-95B2AC24714E}" type="slidenum">
              <a:rPr b="1" lang="es-AR" sz="1100" spc="-1" strike="noStrike">
                <a:solidFill>
                  <a:srgbClr val="000000"/>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5520" y="142920"/>
            <a:ext cx="8832960" cy="213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46160" y="6391440"/>
            <a:ext cx="8832600" cy="30924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Conector recto"/>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30 Elipse"/>
          <p:cNvSpPr/>
          <p:nvPr/>
        </p:nvSpPr>
        <p:spPr>
          <a:xfrm>
            <a:off x="4362480" y="220968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1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2" name="PlaceHolder 3"/>
          <p:cNvSpPr>
            <a:spLocks noGrp="1"/>
          </p:cNvSpPr>
          <p:nvPr>
            <p:ph type="ftr" idx="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19AA-3F5F-4E75-BBCB-9B6404F3D900}"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4" name="PlaceHolder 5"/>
          <p:cNvSpPr>
            <a:spLocks noGrp="1"/>
          </p:cNvSpPr>
          <p:nvPr>
            <p:ph type="sldNum" idx="11"/>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1E00-FAEB-4155-B69A-28880C4F755A}"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1"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8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9 Conector recto"/>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14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9 Conector recto"/>
          <p:cNvSpPr/>
          <p:nvPr/>
        </p:nvSpPr>
        <p:spPr>
          <a:xfrm flipV="1">
            <a:off x="4562640" y="1576080"/>
            <a:ext cx="9360" cy="481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2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3" name="PlaceHolder 3"/>
          <p:cNvSpPr>
            <a:spLocks noGrp="1"/>
          </p:cNvSpPr>
          <p:nvPr>
            <p:ph type="dt" idx="12"/>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2D20-BE5F-4CFA-A8C0-91718629E6EA}"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4" name="PlaceHolder 4"/>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3A95-E410-4C49-ACBD-00E008569A13}"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2" name="19 Conector recto"/>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152280" y="1371600"/>
            <a:ext cx="8832960" cy="9144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46160" y="6391440"/>
            <a:ext cx="8832600" cy="31104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Conector recto"/>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28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2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5" name="PlaceHolder 3"/>
          <p:cNvSpPr>
            <a:spLocks noGrp="1"/>
          </p:cNvSpPr>
          <p:nvPr>
            <p:ph type="dt" idx="1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BFF7-79B1-4880-9BF5-8A64F619135D}"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6" name="PlaceHolder 4"/>
          <p:cNvSpPr>
            <a:spLocks noGrp="1"/>
          </p:cNvSpPr>
          <p:nvPr>
            <p:ph type="ftr" idx="1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17"/>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41F5-E220-4034-84F8-566484448C30}"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8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7 Rectángulo"/>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9 Conector recto"/>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14 Elipse"/>
          <p:cNvSpPr/>
          <p:nvPr/>
        </p:nvSpPr>
        <p:spPr>
          <a:xfrm>
            <a:off x="4362480" y="1050840"/>
            <a:ext cx="419040" cy="4208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3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5"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DB2A-6631-4966-B021-751FC8D6A672}"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6"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5"/>
          <p:cNvSpPr>
            <a:spLocks noGrp="1"/>
          </p:cNvSpPr>
          <p:nvPr>
            <p:ph type="sldNum" idx="20"/>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BBDA-BF98-4ADE-87B9-F4DE0A834313}"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146160" y="6391440"/>
            <a:ext cx="8832600" cy="30924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3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2" name="PlaceHolder 3"/>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6D03-6609-4943-9D17-42E3C7C23AF3}"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3" name="PlaceHolder 4"/>
          <p:cNvSpPr>
            <a:spLocks noGrp="1"/>
          </p:cNvSpPr>
          <p:nvPr>
            <p:ph type="ftr" idx="2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8797-6FB5-4034-85A2-BBABF04C3AB8}" type="slidenum">
              <a:rPr b="0" lang="es-A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19 Rectángulo"/>
          <p:cNvSpPr/>
          <p:nvPr/>
        </p:nvSpPr>
        <p:spPr>
          <a:xfrm>
            <a:off x="152280" y="152280"/>
            <a:ext cx="8832960" cy="30492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152280" y="609480"/>
            <a:ext cx="2743200" cy="5867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Conector recto"/>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29 Elipse"/>
          <p:cNvSpPr/>
          <p:nvPr/>
        </p:nvSpPr>
        <p:spPr>
          <a:xfrm>
            <a:off x="1390680" y="324000"/>
            <a:ext cx="419040" cy="419040"/>
          </a:xfrm>
          <a:prstGeom prst="ellipse">
            <a:avLst/>
          </a:prstGeom>
          <a:solidFill>
            <a:srgbClr val="ffffff"/>
          </a:solidFill>
          <a:ln cap="rnd" w="50760">
            <a:solidFill>
              <a:srgbClr val="88a4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Rectángulo"/>
          <p:cNvSpPr/>
          <p:nvPr/>
        </p:nvSpPr>
        <p:spPr>
          <a:xfrm>
            <a:off x="149400" y="6388200"/>
            <a:ext cx="8832600" cy="309600"/>
          </a:xfrm>
          <a:prstGeom prst="rect">
            <a:avLst/>
          </a:prstGeom>
          <a:solidFill>
            <a:srgbClr val="9bbb5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Click to edit the title text format</a:t>
            </a:r>
            <a:endParaRPr b="0" lang="en-US" sz="3300" spc="-1" strike="noStrike">
              <a:solidFill>
                <a:srgbClr val="88a44d"/>
              </a:solidFill>
              <a:latin typeface="Georgia"/>
            </a:endParaRPr>
          </a:p>
        </p:txBody>
      </p:sp>
      <p:sp>
        <p:nvSpPr>
          <p:cNvPr id="4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4bacc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4" name="PlaceHolder 3"/>
          <p:cNvSpPr>
            <a:spLocks noGrp="1"/>
          </p:cNvSpPr>
          <p:nvPr>
            <p:ph type="sldNum" idx="24"/>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8a44d"/>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0C1E-4D35-4E30-A2B9-D35125637AFF}" type="slidenum">
              <a:rPr b="0" lang="es-AR" sz="1600" spc="-1" strike="noStrike">
                <a:solidFill>
                  <a:srgbClr val="88a44d"/>
                </a:solidFill>
                <a:latin typeface="Georgia"/>
              </a:rPr>
              <a:t>&lt;number&gt;</a:t>
            </a:fld>
            <a:endParaRPr b="0" lang="en-US" sz="1600" spc="-1" strike="noStrike">
              <a:solidFill>
                <a:srgbClr val="000000"/>
              </a:solidFill>
              <a:latin typeface="Times New Roman"/>
            </a:endParaRPr>
          </a:p>
        </p:txBody>
      </p:sp>
      <p:sp>
        <p:nvSpPr>
          <p:cNvPr id="415" name="PlaceHolder 4"/>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C3BA-5842-47A8-B886-E52893B5EF27}" type="datetime">
              <a:rPr b="0" lang="es-AR"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6" name="PlaceHolder 5"/>
          <p:cNvSpPr>
            <a:spLocks noGrp="1"/>
          </p:cNvSpPr>
          <p:nvPr>
            <p:ph type="ftr" idx="2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428840" y="4500360"/>
            <a:ext cx="6400800" cy="9284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1f497d"/>
                </a:solidFill>
                <a:latin typeface="Georgia"/>
              </a:rPr>
              <a:t>HUMBERTO J. BERTAZZA</a:t>
            </a:r>
            <a:endParaRPr b="0" lang="en-US" sz="2800" spc="-1" strike="noStrike">
              <a:solidFill>
                <a:srgbClr val="000000"/>
              </a:solidFill>
              <a:latin typeface="Georgia"/>
            </a:endParaRPr>
          </a:p>
        </p:txBody>
      </p:sp>
      <p:sp>
        <p:nvSpPr>
          <p:cNvPr id="606" name="PlaceHolder 2"/>
          <p:cNvSpPr>
            <a:spLocks noGrp="1"/>
          </p:cNvSpPr>
          <p:nvPr>
            <p:ph type="title"/>
          </p:nvPr>
        </p:nvSpPr>
        <p:spPr>
          <a:xfrm>
            <a:off x="685800" y="380520"/>
            <a:ext cx="7772400" cy="304812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Georgia"/>
              </a:rPr>
              <a:t>RESEÑA DE JURISPRUDENCIA</a:t>
            </a:r>
            <a:endParaRPr b="0" lang="en-US" sz="6000" spc="-1" strike="noStrike">
              <a:solidFill>
                <a:srgbClr val="88a44d"/>
              </a:solidFill>
              <a:latin typeface="Georgia"/>
            </a:endParaRPr>
          </a:p>
        </p:txBody>
      </p:sp>
      <p:sp>
        <p:nvSpPr>
          <p:cNvPr id="607" name="3 CuadroTexto"/>
          <p:cNvSpPr/>
          <p:nvPr/>
        </p:nvSpPr>
        <p:spPr>
          <a:xfrm>
            <a:off x="428760" y="5643720"/>
            <a:ext cx="121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C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09/11/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5983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10253f"/>
                </a:solidFill>
                <a:latin typeface="Georgia"/>
              </a:rPr>
              <a:t>La sentencia del TFN en cuanto a la inexistencia del elemento objetivo no es vinculante en sede penal (II)</a:t>
            </a:r>
            <a:endParaRPr b="0" lang="en-US" sz="2600" spc="-1" strike="noStrike">
              <a:solidFill>
                <a:srgbClr val="88a44d"/>
              </a:solidFill>
              <a:latin typeface="Georgia"/>
            </a:endParaRPr>
          </a:p>
        </p:txBody>
      </p:sp>
      <p:sp>
        <p:nvSpPr>
          <p:cNvPr id="633" name=""/>
          <p:cNvSpPr txBox="1"/>
          <p:nvPr/>
        </p:nvSpPr>
        <p:spPr>
          <a:xfrm>
            <a:off x="71280" y="1428840"/>
            <a:ext cx="9001440" cy="5330880"/>
          </a:xfrm>
          <a:prstGeom prst="rect">
            <a:avLst/>
          </a:prstGeom>
          <a:noFill/>
          <a:ln w="0">
            <a:noFill/>
          </a:ln>
        </p:spPr>
        <p:txBody>
          <a:bodyPr anchor="t">
            <a:normAutofit fontScale="99000"/>
          </a:bodyPr>
          <a:p>
            <a:pPr marL="177480" indent="-17748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regla prevista por el art. 9 del C.P.P.N es precisa e inequívoca con respecto a que los tribunales deben resolver todas las cuestiones que se susciten en el proceso, con excepción de las prejudiciales, naturaleza que no revisten la determinación del hecho imponible ni la existencia de la obligación tributaria, circunstancias que, en principio, no pueden dejar de establecerse jurisdiccionalmente con relación a imputaciones como las de autos... " (confr. considerando 6º del voto de los Dres. Marcos Amoldo GRABIVKER y Carlos Alberto PIZZATELLI y considerando 6° del voto del Dr. Roberto Enrique HORNOS en la resolución del registro recordado; en igual sentido, Reg. N° 269/11 de esta Sala "B“.</a:t>
            </a:r>
            <a:endParaRPr b="0" lang="en-US" sz="1800" spc="-1" strike="noStrike">
              <a:solidFill>
                <a:srgbClr val="000000"/>
              </a:solidFill>
              <a:latin typeface="Georgia"/>
            </a:endParaRPr>
          </a:p>
          <a:p>
            <a:pPr marL="177480" indent="-17748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el contexto señalado, la circunstancia que el TFN haya revocado la resolución por la cual se impugnó la declaración jurada presentada por ADANTI SOLAZZI S.A.C.I. y F. correspondiente al Impuesto a las Ganancias por el ejercicio 1999 y se determinó de oficio la obligación impositiva de aquélla por el impuesto y período aludidos no determina, por sí misma, la inexistencia del hecho ilícito investigado en los autos principales ni la procedencia de la excepción de falta de acción planteada por el recurrente; esto, sin perjuicio del valor que pueda tener para la causa la sentencia recordada y las pruebas incorporadas al expediente en que aquélla fue dictada</a:t>
            </a:r>
            <a:endParaRPr b="0" lang="en-US" sz="1800" spc="-1" strike="noStrike">
              <a:solidFill>
                <a:srgbClr val="000000"/>
              </a:solidFill>
              <a:latin typeface="Georgia"/>
            </a:endParaRPr>
          </a:p>
        </p:txBody>
      </p:sp>
      <p:sp>
        <p:nvSpPr>
          <p:cNvPr id="634"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4313-8088-477C-BD9F-92A399C3EEE6}"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5270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0253f"/>
                </a:solidFill>
                <a:latin typeface="Georgia"/>
              </a:rPr>
              <a:t>Fecha de comisión del ilícito de evasión fiscal</a:t>
            </a:r>
            <a:br>
              <a:rPr sz="2400"/>
            </a:br>
            <a:r>
              <a:rPr b="1" lang="es-AR" sz="2400" spc="-1" strike="noStrike">
                <a:solidFill>
                  <a:srgbClr val="10253f"/>
                </a:solidFill>
                <a:latin typeface="Georgia"/>
              </a:rPr>
              <a:t>Salidas no documentadas al efecto de la prescripción penal</a:t>
            </a:r>
            <a:endParaRPr b="0" lang="en-US" sz="2400" spc="-1" strike="noStrike">
              <a:solidFill>
                <a:srgbClr val="88a44d"/>
              </a:solidFill>
              <a:latin typeface="Georgia"/>
            </a:endParaRPr>
          </a:p>
        </p:txBody>
      </p:sp>
      <p:sp>
        <p:nvSpPr>
          <p:cNvPr id="636" name=""/>
          <p:cNvSpPr txBox="1"/>
          <p:nvPr/>
        </p:nvSpPr>
        <p:spPr>
          <a:xfrm>
            <a:off x="142920" y="1428840"/>
            <a:ext cx="8786880" cy="4572000"/>
          </a:xfrm>
          <a:prstGeom prst="rect">
            <a:avLst/>
          </a:prstGeom>
          <a:noFill/>
          <a:ln w="0">
            <a:noFill/>
          </a:ln>
        </p:spPr>
        <p:txBody>
          <a:bodyPr anchor="t">
            <a:normAutofit fontScale="90000"/>
          </a:bodyPr>
          <a:p>
            <a:pPr marL="245520" indent="-245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Nacich, Hugo Celestino”, Cam. Nac. Casac. Penal, Sala I del 11/7/2011</a:t>
            </a:r>
            <a:endParaRPr b="0" lang="en-US" sz="1400" spc="-1" strike="noStrike">
              <a:solidFill>
                <a:srgbClr val="000000"/>
              </a:solidFill>
              <a:latin typeface="Georgia"/>
            </a:endParaRPr>
          </a:p>
          <a:p>
            <a:pPr marL="245520" indent="-2455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a fecha de comisión del delito de evasión fiscal, en el impuesto a las ganancias, salidas no documentadas, se consumó al vencimiento establecido por la RG 893/00 AFIP (15 ds hábiles a partir de la última erogación sin respaldo documental y efectuada por el contribuyente, considerando el ejercicio anual), es decir el 11/9/2000 y no el 7/5/01, que es la fecha pretendida por el Fisco en relación a la juzgada para la presentación de la DDJJ y pago del impuesto a las ganancias.</a:t>
            </a:r>
            <a:endParaRPr b="0" lang="en-US" sz="1600" spc="-1" strike="noStrike">
              <a:solidFill>
                <a:srgbClr val="000000"/>
              </a:solidFill>
              <a:latin typeface="Georgia"/>
            </a:endParaRPr>
          </a:p>
          <a:p>
            <a:pPr marL="245520" indent="-2455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l tratarse el impuesto a las salidas no documentadas de un impuesto diverso al de ganancias, no sólo se trata de un hecho imponible diverso, sino que debe liquidarse en la fecha indicada por las autoridades administrativas para ello; en consecuencia el delito de evasión de este impuesto comenzaría a correr desde el vencimiento establecido por la RG 893/00 de AFIP, que fue el valorado por los magistrados de grado a fin de establecer el cómputo de la prescripción de la acción.</a:t>
            </a:r>
            <a:endParaRPr b="0" lang="en-US" sz="1600" spc="-1" strike="noStrike">
              <a:solidFill>
                <a:srgbClr val="000000"/>
              </a:solidFill>
              <a:latin typeface="Georgia"/>
            </a:endParaRPr>
          </a:p>
          <a:p>
            <a:pPr marL="245520" indent="-2455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Si bien es cierto que como señalan los recurrentes, en casos como el presente puede darse que exista una correlación en la evasión de ambos impuestos, pues puede suceder que al momento de presentarse la declaración jurada del impuesto a las ganancias se pretenda reducir la base imponible por aplicación dé deducciones correspondientes a supuestas salidas no documentadas; ello no permite descartar que se trate de dos hechos escindibles entre sí al tratarse de dos hechos imponibles distintos y, por ende, también el plazo de la prescripción de la acción de ambos es diferente.</a:t>
            </a:r>
            <a:endParaRPr b="0" lang="en-US" sz="1600" spc="-1" strike="noStrike">
              <a:solidFill>
                <a:srgbClr val="000000"/>
              </a:solidFill>
              <a:latin typeface="Georgia"/>
            </a:endParaRPr>
          </a:p>
        </p:txBody>
      </p:sp>
      <p:sp>
        <p:nvSpPr>
          <p:cNvPr id="637"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1604-427A-4C72-AC74-52D11566C07A}"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70920"/>
            <a:ext cx="8534520" cy="107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10253f"/>
                </a:solidFill>
                <a:latin typeface="Georgia"/>
              </a:rPr>
              <a:t>Nulidad de las notificaciones practicadas por el Fisco en función del domicilio fiscal</a:t>
            </a:r>
            <a:endParaRPr b="0" lang="en-US" sz="3000" spc="-1" strike="noStrike">
              <a:solidFill>
                <a:srgbClr val="88a44d"/>
              </a:solidFill>
              <a:latin typeface="Georgia"/>
            </a:endParaRPr>
          </a:p>
        </p:txBody>
      </p:sp>
      <p:sp>
        <p:nvSpPr>
          <p:cNvPr id="639" name=""/>
          <p:cNvSpPr txBox="1"/>
          <p:nvPr/>
        </p:nvSpPr>
        <p:spPr>
          <a:xfrm>
            <a:off x="142920" y="1428840"/>
            <a:ext cx="8858160" cy="4929120"/>
          </a:xfrm>
          <a:prstGeom prst="rect">
            <a:avLst/>
          </a:prstGeom>
          <a:noFill/>
          <a:ln w="0">
            <a:noFill/>
          </a:ln>
        </p:spPr>
        <p:txBody>
          <a:bodyPr anchor="t">
            <a:normAutofit fontScale="94000"/>
          </a:bodyPr>
          <a:p>
            <a:pPr marL="256320" indent="-256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Aresco SA”, CCAF, Sala II del 17/2/11</a:t>
            </a:r>
            <a:endParaRPr b="0" lang="en-US" sz="1600" spc="-1" strike="noStrike">
              <a:solidFill>
                <a:srgbClr val="000000"/>
              </a:solidFill>
              <a:latin typeface="Georgia"/>
            </a:endParaRPr>
          </a:p>
          <a:p>
            <a:pPr marL="256320" indent="-25632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Se revoca la decisión del TFN, en cuanto a la declaración de la improcencia formal del recurso interpuesto por la actora al entender como válidas las notificaciones cuestionadas, dejando sin efecto la aludida resolución, al ser nulas las actas involucradas por no ajustarse a lo dispuesto en la normativa aplicable.</a:t>
            </a:r>
            <a:endParaRPr b="0" lang="en-US" sz="1900" spc="-1" strike="noStrike">
              <a:solidFill>
                <a:srgbClr val="000000"/>
              </a:solidFill>
              <a:latin typeface="Georgia"/>
            </a:endParaRPr>
          </a:p>
          <a:p>
            <a:pPr marL="256320" indent="-25632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La expresión "puerta de domicilio" no podía interpretarse de otro modo que la puerta de la unidad funcional o departamento donde la contribuyente tenía su domicilio fiscal o había constituido el especial puesto que tal unidad en concreto era el lugar denunciado o elegido para recibir las notificaciones y no la dirección del edificio sin especificar el departamento.</a:t>
            </a:r>
            <a:endParaRPr b="0" lang="en-US" sz="1900" spc="-1" strike="noStrike">
              <a:solidFill>
                <a:srgbClr val="000000"/>
              </a:solidFill>
              <a:latin typeface="Georgia"/>
            </a:endParaRPr>
          </a:p>
          <a:p>
            <a:pPr marL="256320" indent="-25632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Las notificaciones, como actos procesales de transmisión, se vinculaban al derecho de defensa contemplado en el artículo 18 de la Constitución Nacional.</a:t>
            </a:r>
            <a:endParaRPr b="0" lang="en-US" sz="1900" spc="-1" strike="noStrike">
              <a:solidFill>
                <a:srgbClr val="000000"/>
              </a:solidFill>
              <a:latin typeface="Georgia"/>
            </a:endParaRPr>
          </a:p>
          <a:p>
            <a:pPr marL="256320" indent="-25632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No resultaba un obstáculo la ausencia de redargución de falsedad de las actas puesto que el defecto o vicio del que adolecían las notificaciones había quedado plasmado en el propio texto de éstas.</a:t>
            </a:r>
            <a:endParaRPr b="0" lang="en-US" sz="1900" spc="-1" strike="noStrike">
              <a:solidFill>
                <a:srgbClr val="000000"/>
              </a:solidFill>
              <a:latin typeface="Georgia"/>
            </a:endParaRPr>
          </a:p>
        </p:txBody>
      </p:sp>
      <p:sp>
        <p:nvSpPr>
          <p:cNvPr id="640"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CC05-A42B-4A47-AAFF-1C4904FF9116}"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2920" y="357120"/>
            <a:ext cx="8858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10253f"/>
                </a:solidFill>
                <a:latin typeface="Georgia"/>
              </a:rPr>
              <a:t>Revocación de la multa por defraudación fiscal en salidas no documentadas</a:t>
            </a:r>
            <a:endParaRPr b="0" lang="en-US" sz="3200" spc="-1" strike="noStrike">
              <a:solidFill>
                <a:srgbClr val="88a44d"/>
              </a:solidFill>
              <a:latin typeface="Georgia"/>
            </a:endParaRPr>
          </a:p>
        </p:txBody>
      </p:sp>
      <p:sp>
        <p:nvSpPr>
          <p:cNvPr id="642" name=""/>
          <p:cNvSpPr txBox="1"/>
          <p:nvPr/>
        </p:nvSpPr>
        <p:spPr>
          <a:xfrm>
            <a:off x="139320" y="1428840"/>
            <a:ext cx="8861400" cy="4572000"/>
          </a:xfrm>
          <a:prstGeom prst="rect">
            <a:avLst/>
          </a:prstGeom>
          <a:noFill/>
          <a:ln w="0">
            <a:noFill/>
          </a:ln>
        </p:spPr>
        <p:txBody>
          <a:bodyPr anchor="t">
            <a:normAutofit fontScale="93000"/>
          </a:bodyPr>
          <a:p>
            <a:pPr marL="253440" indent="-253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Modart SA”, CCAF, Sala III del 11/4/11</a:t>
            </a:r>
            <a:endParaRPr b="0" lang="en-US" sz="1200" spc="-1" strike="noStrike">
              <a:solidFill>
                <a:srgbClr val="000000"/>
              </a:solidFill>
              <a:latin typeface="Georgia"/>
            </a:endParaRPr>
          </a:p>
          <a:p>
            <a:pPr marL="253440" indent="-2534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configuración de una salida no documentada requería inevitablemente la concurrencia de dos elementos objetivos expresamente previstos en la letra del artículo 37 de la Ley del Impuesto a las Ganancias, a saber, que existiese una erogación o salida de dinero en cabeza del contribuyente fehacientemente acreditada y que dicha erogación careciera de documentación y no se probase por otros medios que, por su naturaleza, había debido ser efectuada para obtener, mantener y conservar ganancias gravadas.</a:t>
            </a:r>
            <a:endParaRPr b="0" lang="en-US" sz="1400" spc="-1" strike="noStrike">
              <a:solidFill>
                <a:srgbClr val="000000"/>
              </a:solidFill>
              <a:latin typeface="Georgia"/>
            </a:endParaRPr>
          </a:p>
          <a:p>
            <a:pPr marL="253440" indent="-2534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l confrontarse dicho artículo 37 y el artículo 46 de la Ley de Procedimientos Tributarios, podía observarse que los elementos objetivos que constituían la salida no documentada no eran suficientes para configurar, por sí mismos, todos los requisitos del artículo 46 aludido.</a:t>
            </a:r>
            <a:endParaRPr b="0" lang="en-US" sz="1400" spc="-1" strike="noStrike">
              <a:solidFill>
                <a:srgbClr val="000000"/>
              </a:solidFill>
              <a:latin typeface="Georgia"/>
            </a:endParaRPr>
          </a:p>
          <a:p>
            <a:pPr marL="253440" indent="-2534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lo equivalía a ratificar, con otros términos, que la existencia de una erogación carente de respaldo documental válido no implicaba la existencia de una conducta que, de por sí, se subsumiera en el tipo infraccional previsto en el artículo 46 de la Ley Nº 11.683.</a:t>
            </a:r>
            <a:endParaRPr b="0" lang="en-US" sz="1400" spc="-1" strike="noStrike">
              <a:solidFill>
                <a:srgbClr val="000000"/>
              </a:solidFill>
              <a:latin typeface="Georgia"/>
            </a:endParaRPr>
          </a:p>
          <a:p>
            <a:pPr marL="253440" indent="-2534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Nada obstaría a la aplicación de dicho artículo 46 si la declaración hubiese sido maliciosa y con fines fraudulentos, o del artículo 45 de la misma ley ante la ausencia de dolo y engaño, ello así toda vez que ya no se estaría sancionando la salida no documentada per se, sino la omisión del Impuesto a las Ganancias o del IVA a través del cómputo inadecuado de los gastos que no contaban con documentación de respaldo.</a:t>
            </a:r>
            <a:endParaRPr b="0" lang="en-US" sz="1400" spc="-1" strike="noStrike">
              <a:solidFill>
                <a:srgbClr val="000000"/>
              </a:solidFill>
              <a:latin typeface="Georgia"/>
            </a:endParaRPr>
          </a:p>
          <a:p>
            <a:pPr marL="253440" indent="-2534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 fundamento del Fisco para aplicar la sanción referida a las erogaciones no documentadas no era otro que su indebido cómputo en el IVA y el Impuesto a las Ganancias, de lo cual se seguía que confirmar dicha multa importaría una violación al principio non bis in idem (artículo 18 de la Constitución Nacional). </a:t>
            </a:r>
            <a:endParaRPr b="0" lang="en-US" sz="1400" spc="-1" strike="noStrike">
              <a:solidFill>
                <a:srgbClr val="000000"/>
              </a:solidFill>
              <a:latin typeface="Georgia"/>
            </a:endParaRPr>
          </a:p>
        </p:txBody>
      </p:sp>
      <p:sp>
        <p:nvSpPr>
          <p:cNvPr id="643"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A74F-8550-4994-BF6F-0DD9C8D96629}"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5983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10253f"/>
                </a:solidFill>
                <a:latin typeface="Georgia"/>
              </a:rPr>
              <a:t>Procedencia de la exención de impuestos internos en el caso de “fraccionamiento en el lugar de origen”</a:t>
            </a:r>
            <a:endParaRPr b="0" lang="en-US" sz="2600" spc="-1" strike="noStrike">
              <a:solidFill>
                <a:srgbClr val="88a44d"/>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Causa: “Resero SA”, CCAF, Sala II del 2/8/11</a:t>
            </a:r>
            <a:endParaRPr b="0" lang="en-US" sz="2400" spc="-1" strike="noStrike">
              <a:solidFill>
                <a:srgbClr val="000000"/>
              </a:solidFill>
              <a:latin typeface="Georgia"/>
            </a:endParaRPr>
          </a:p>
          <a:p>
            <a:pPr marL="272880" indent="-272880">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Se aplica la doctrina plenaria de la Cámara que establece “se encuentra alcanzado por la exención impositiva que dispone el artículo 52 de la ley de impuestos internos el expendio de vinos comunes elaborados en una provincia y fraccionados en otra al entenderse tal actividad como fraccionados en el lugar de origen de la materia prima”.</a:t>
            </a:r>
            <a:endParaRPr b="0" lang="en-US" sz="2800" spc="-1" strike="noStrike">
              <a:solidFill>
                <a:srgbClr val="000000"/>
              </a:solidFill>
              <a:latin typeface="Georgia"/>
            </a:endParaRPr>
          </a:p>
        </p:txBody>
      </p:sp>
      <p:sp>
        <p:nvSpPr>
          <p:cNvPr id="646"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BD81-2869-4F51-AD48-E72B2F61EEAD}"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357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10253f"/>
                </a:solidFill>
                <a:latin typeface="Georgia"/>
              </a:rPr>
              <a:t>Tratamiento fiscal aplicable a los retiros efectuados por los accionistas de la SA</a:t>
            </a:r>
            <a:endParaRPr b="0" lang="en-US" sz="3000" spc="-1" strike="noStrike">
              <a:solidFill>
                <a:srgbClr val="88a44d"/>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fontScale="99000"/>
          </a:bodyPr>
          <a:p>
            <a:pPr marL="270000" indent="-2700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Promadache, Ester” TFN, Sala “C” del 14/4/11</a:t>
            </a:r>
            <a:endParaRPr b="0" lang="en-US" sz="2000" spc="-1" strike="noStrike">
              <a:solidFill>
                <a:srgbClr val="000000"/>
              </a:solidFill>
              <a:latin typeface="Georgia"/>
            </a:endParaRPr>
          </a:p>
          <a:p>
            <a:pPr marL="270000" indent="-27000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Se revoca la resolución de la AFIP, por medio de la cual se imputaron como honorarios de directores, los retiros de accionistas considerados como préstamos por el contribuyente, en consideración de la conclusiones emanados de la Cámara Federal de Salta que, en el proceso penal tributario, desestimó la postura estatal al no considerarse probado que tales montos constituirán honorarios.</a:t>
            </a:r>
            <a:endParaRPr b="0" lang="en-US" sz="2700" spc="-1" strike="noStrike">
              <a:solidFill>
                <a:srgbClr val="000000"/>
              </a:solidFill>
              <a:latin typeface="Georgia"/>
            </a:endParaRPr>
          </a:p>
        </p:txBody>
      </p:sp>
      <p:sp>
        <p:nvSpPr>
          <p:cNvPr id="649"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5F0D-EE79-4F82-9A10-5B135A24B750}"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5270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10253f"/>
                </a:solidFill>
                <a:latin typeface="Georgia"/>
              </a:rPr>
              <a:t>Tratamiento fiscal de un plan de pensión</a:t>
            </a:r>
            <a:endParaRPr b="0" lang="en-US" sz="3600" spc="-1" strike="noStrike">
              <a:solidFill>
                <a:srgbClr val="88a44d"/>
              </a:solidFill>
              <a:latin typeface="Georgia"/>
            </a:endParaRPr>
          </a:p>
        </p:txBody>
      </p:sp>
      <p:sp>
        <p:nvSpPr>
          <p:cNvPr id="651" name=""/>
          <p:cNvSpPr txBox="1"/>
          <p:nvPr/>
        </p:nvSpPr>
        <p:spPr>
          <a:xfrm>
            <a:off x="301320" y="1526760"/>
            <a:ext cx="8504280" cy="4902120"/>
          </a:xfrm>
          <a:prstGeom prst="rect">
            <a:avLst/>
          </a:prstGeom>
          <a:noFill/>
          <a:ln w="0">
            <a:noFill/>
          </a:ln>
        </p:spPr>
        <p:txBody>
          <a:bodyPr anchor="t">
            <a:normAutofit fontScale="97000"/>
          </a:bodyPr>
          <a:p>
            <a:pPr marL="264600" indent="-264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Pan American Energy LLS Suc Arg” TFN, Sala “C” del 5/5/11</a:t>
            </a:r>
            <a:endParaRPr b="0" lang="en-US" sz="1800" spc="-1" strike="noStrike">
              <a:solidFill>
                <a:srgbClr val="000000"/>
              </a:solidFill>
              <a:latin typeface="Georgia"/>
            </a:endParaRPr>
          </a:p>
          <a:p>
            <a:pPr marL="264600" indent="-264600">
              <a:spcBef>
                <a:spcPts val="55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Se confirma la DO, por medio de la cual la AFIP determina el impuesto a las ganancias, impugnando la deducción efectuada por la empresa en concepto de “Plan de Pensión”, consistente en un plan de retiro para los ex-empleados de la empresa, como complemento de otras fuentes de ingresos jubilatorios.</a:t>
            </a:r>
            <a:endParaRPr b="0" lang="en-US" sz="2200" spc="-1" strike="noStrike">
              <a:solidFill>
                <a:srgbClr val="000000"/>
              </a:solidFill>
              <a:latin typeface="Georgia"/>
            </a:endParaRPr>
          </a:p>
          <a:p>
            <a:pPr marL="264600" indent="-264600">
              <a:spcBef>
                <a:spcPts val="55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eorgia"/>
              </a:rPr>
              <a:t>No era aplicable a la especie el artículo 87 inciso g) de la ley del tributo puesto que dicho plan no era un seguro de retiro siendo, en los hechos, un estímulo tendiente a lograr la permanencia del personal técnico especializado constituyendo una obligación que le genera, en caso de incumplimiento, ser objeto de reclamos judiciales interpretando que se trata de una retribución diferida en el tiempo.</a:t>
            </a:r>
            <a:endParaRPr b="0" lang="en-US" sz="2200" spc="-1" strike="noStrike">
              <a:solidFill>
                <a:srgbClr val="000000"/>
              </a:solidFill>
              <a:latin typeface="Georgia"/>
            </a:endParaRPr>
          </a:p>
        </p:txBody>
      </p:sp>
      <p:sp>
        <p:nvSpPr>
          <p:cNvPr id="652"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E436-2F23-46C4-80D9-662EAABBA6AD}"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35712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10253f"/>
                </a:solidFill>
                <a:latin typeface="Georgia"/>
              </a:rPr>
              <a:t>Tratamiento fiscal aplicable a la condonación de deuda entre empresas del mismo grupo económico</a:t>
            </a:r>
            <a:endParaRPr b="0" lang="en-US" sz="2600" spc="-1" strike="noStrike">
              <a:solidFill>
                <a:srgbClr val="88a44d"/>
              </a:solidFill>
              <a:latin typeface="Georgia"/>
            </a:endParaRPr>
          </a:p>
        </p:txBody>
      </p:sp>
      <p:sp>
        <p:nvSpPr>
          <p:cNvPr id="654" name=""/>
          <p:cNvSpPr txBox="1"/>
          <p:nvPr/>
        </p:nvSpPr>
        <p:spPr>
          <a:xfrm>
            <a:off x="142920" y="1428840"/>
            <a:ext cx="8858160" cy="4572000"/>
          </a:xfrm>
          <a:prstGeom prst="rect">
            <a:avLst/>
          </a:prstGeom>
          <a:noFill/>
          <a:ln w="0">
            <a:noFill/>
          </a:ln>
        </p:spPr>
        <p:txBody>
          <a:bodyPr anchor="t">
            <a:normAutofit fontScale="91000"/>
          </a:bodyPr>
          <a:p>
            <a:pPr marL="248040" indent="-248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Hochtief Argentina SA” TFN, Sala “B” del 11/5/11</a:t>
            </a:r>
            <a:endParaRPr b="0" lang="en-US" sz="1600" spc="-1" strike="noStrike">
              <a:solidFill>
                <a:srgbClr val="000000"/>
              </a:solidFill>
              <a:latin typeface="Georgia"/>
            </a:endParaRPr>
          </a:p>
          <a:p>
            <a:pPr marL="248040" indent="-248040">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e revoca la DO, por medio de la cual el Fisco determinó el impuesto a las ganancias, al considerar que la condonación de deuda otorgada por su sociedad controlante por un monto significativo, se encontraba sujeta al impuesto por no ser a título gratuito y, por lo tanto, no proceder el beneficio de la exención prevista por el Art. 20 inc u) de la ley de la materia.</a:t>
            </a:r>
            <a:endParaRPr b="0" lang="en-US" sz="2000" spc="-1" strike="noStrike">
              <a:solidFill>
                <a:srgbClr val="000000"/>
              </a:solidFill>
              <a:latin typeface="Georgia"/>
            </a:endParaRPr>
          </a:p>
          <a:p>
            <a:pPr marL="248040" indent="-248040">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ara ello, se consideró que la relación de subordinación que tiene el dependiente no elimina su personalidad jurídica y aunque se considere que se encuentran sometidas a una unidad de decisión, no resulta por ello que se pueda prescindir de la autonomía jurídica de cada uno de los sujetos societarios implicados; cada una de las sociedades constituye un ente jurídico diverso de otra persona, inclusive de los socios que la integran por lo cual no podría sostenerse que los beneficios volvieran a la sociedad controlante como aduce el Estado Nacional</a:t>
            </a:r>
            <a:endParaRPr b="0" lang="en-US" sz="2000" spc="-1" strike="noStrike">
              <a:solidFill>
                <a:srgbClr val="000000"/>
              </a:solidFill>
              <a:latin typeface="Georg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	</a:t>
            </a:r>
            <a:r>
              <a:rPr b="0" lang="es-AR" sz="2000" spc="-1" strike="noStrike">
                <a:solidFill>
                  <a:srgbClr val="000000"/>
                </a:solidFill>
                <a:latin typeface="Georgia"/>
              </a:rPr>
              <a:t>(Votación de la mayoría, Adorno y Urresti, y Castro, en disidencia).</a:t>
            </a:r>
            <a:endParaRPr b="0" lang="en-US" sz="2000" spc="-1" strike="noStrike">
              <a:solidFill>
                <a:srgbClr val="000000"/>
              </a:solidFill>
              <a:latin typeface="Georgia"/>
            </a:endParaRPr>
          </a:p>
        </p:txBody>
      </p:sp>
      <p:sp>
        <p:nvSpPr>
          <p:cNvPr id="655"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2B7A-9D00-40C5-BA25-4A56005F5CC5}"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5983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10253f"/>
                </a:solidFill>
                <a:latin typeface="Georgia"/>
              </a:rPr>
              <a:t>Nulidad de la multa por defraudación fiscal por falta de explicitación de la causa que origina la sanción</a:t>
            </a:r>
            <a:endParaRPr b="0" lang="en-US" sz="2600" spc="-1" strike="noStrike">
              <a:solidFill>
                <a:srgbClr val="88a44d"/>
              </a:solidFill>
              <a:latin typeface="Georgia"/>
            </a:endParaRPr>
          </a:p>
        </p:txBody>
      </p:sp>
      <p:sp>
        <p:nvSpPr>
          <p:cNvPr id="657" name=""/>
          <p:cNvSpPr txBox="1"/>
          <p:nvPr/>
        </p:nvSpPr>
        <p:spPr>
          <a:xfrm>
            <a:off x="213840" y="1571760"/>
            <a:ext cx="8643960" cy="4572000"/>
          </a:xfrm>
          <a:prstGeom prst="rect">
            <a:avLst/>
          </a:prstGeom>
          <a:noFill/>
          <a:ln w="0">
            <a:noFill/>
          </a:ln>
        </p:spPr>
        <p:txBody>
          <a:bodyPr anchor="t">
            <a:normAutofit fontScale="93000"/>
          </a:bodyPr>
          <a:p>
            <a:pPr marL="253440" indent="-253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8 Dragones Mendoza SA” TFN, Sala “A” del 27/5/11</a:t>
            </a:r>
            <a:endParaRPr b="0" lang="en-US" sz="1600" spc="-1" strike="noStrike">
              <a:solidFill>
                <a:srgbClr val="000000"/>
              </a:solidFill>
              <a:latin typeface="Georgia"/>
            </a:endParaRPr>
          </a:p>
          <a:p>
            <a:pPr marL="253440" indent="-25344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Se declara la nulidad de la resolución de la AFIP que aplicó una multa por defraudación fiscal (Art. 46 de la ley 11683), por no tener una debida fundamentación.</a:t>
            </a:r>
            <a:endParaRPr b="0" lang="en-US" sz="1900" spc="-1" strike="noStrike">
              <a:solidFill>
                <a:srgbClr val="000000"/>
              </a:solidFill>
              <a:latin typeface="Georgia"/>
            </a:endParaRPr>
          </a:p>
          <a:p>
            <a:pPr marL="253440" indent="-25344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Para ello, se consideró que el citado acto administrativo no especificó ni mencionó genéricamente los extremos referidos en el artículo 47 de la ley ritual; </a:t>
            </a:r>
            <a:endParaRPr b="0" lang="en-US" sz="1900" spc="-1" strike="noStrike">
              <a:solidFill>
                <a:srgbClr val="000000"/>
              </a:solidFill>
              <a:latin typeface="Georgia"/>
            </a:endParaRPr>
          </a:p>
          <a:p>
            <a:pPr marL="253440" indent="-25344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Ello le quitó validez al mentado acto administrativo dado que el contribuyente perdió la posibilidad de ejercitar su derecho de defensa.</a:t>
            </a:r>
            <a:endParaRPr b="0" lang="en-US" sz="1900" spc="-1" strike="noStrike">
              <a:solidFill>
                <a:srgbClr val="000000"/>
              </a:solidFill>
              <a:latin typeface="Georgia"/>
            </a:endParaRPr>
          </a:p>
          <a:p>
            <a:pPr marL="253440" indent="-253440">
              <a:spcBef>
                <a:spcPts val="47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El error en que se incurrió en el acto administrativo de condena al no encuadrar ni tipificar la conducta de la recurrente en forma clara y específica, constituye un vicio que descalifica la validez intrínseca del acto en cuanto afecta el derecho de defensa de la actora, de jerarquía constitucional; de otro, porque el sistema de reenvío que en la materia prescribe la ley 11.683 al Código Procesal Penal, así lo permite, al estarse en presencia de una nulidad absoluta.</a:t>
            </a:r>
            <a:endParaRPr b="0" lang="en-US" sz="1900" spc="-1" strike="noStrike">
              <a:solidFill>
                <a:srgbClr val="000000"/>
              </a:solidFill>
              <a:latin typeface="Georgia"/>
            </a:endParaRPr>
          </a:p>
        </p:txBody>
      </p:sp>
      <p:sp>
        <p:nvSpPr>
          <p:cNvPr id="658"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8054-840B-4062-9575-3C629AF8A67A}"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31284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 inspección técnica vehicular y el IVA (I)</a:t>
            </a:r>
            <a:endParaRPr b="0" lang="en-US" sz="3300" spc="-1" strike="noStrike">
              <a:solidFill>
                <a:srgbClr val="88a44d"/>
              </a:solidFill>
              <a:latin typeface="Georgia"/>
            </a:endParaRPr>
          </a:p>
        </p:txBody>
      </p:sp>
      <p:sp>
        <p:nvSpPr>
          <p:cNvPr id="660" name=""/>
          <p:cNvSpPr txBox="1"/>
          <p:nvPr/>
        </p:nvSpPr>
        <p:spPr>
          <a:xfrm>
            <a:off x="214200" y="1428480"/>
            <a:ext cx="8786880" cy="5143320"/>
          </a:xfrm>
          <a:prstGeom prst="rect">
            <a:avLst/>
          </a:prstGeom>
          <a:noFill/>
          <a:ln w="0">
            <a:noFill/>
          </a:ln>
        </p:spPr>
        <p:txBody>
          <a:bodyPr anchor="t">
            <a:normAutofit fontScale="96000"/>
          </a:bodyPr>
          <a:p>
            <a:pPr marL="261720" indent="-2617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Riasa SA”, CCAF, 15/9/01</a:t>
            </a:r>
            <a:endParaRPr b="0" lang="en-US" sz="1400" spc="-1" strike="noStrike">
              <a:solidFill>
                <a:srgbClr val="000000"/>
              </a:solidFill>
              <a:latin typeface="Georgia"/>
            </a:endParaRPr>
          </a:p>
          <a:p>
            <a:pPr marL="261720" indent="-261720">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Georgia"/>
              </a:rPr>
              <a:t>La cuestión de fondo traída a debate en estas actuaciones se centró en dilucidar el tratamiento que el a quo entendió corresponde otorgar en el IVA a los montos facturados por la actora en concepto de "certificados y obleas" que acreditan frente a terceros la realización de la revisión técnica vehicular obligatoria de transporte de pasajeros y cargas afectados a servicios de jurisdicción nacional</a:t>
            </a:r>
            <a:r>
              <a:rPr b="0" lang="es-AR" sz="1700" spc="-1" strike="noStrike">
                <a:solidFill>
                  <a:srgbClr val="000000"/>
                </a:solidFill>
                <a:latin typeface="Georgia"/>
              </a:rPr>
              <a:t>.</a:t>
            </a:r>
            <a:endParaRPr b="0" lang="en-US" sz="1700" spc="-1" strike="noStrike">
              <a:solidFill>
                <a:srgbClr val="000000"/>
              </a:solidFill>
              <a:latin typeface="Georgia"/>
            </a:endParaRPr>
          </a:p>
          <a:p>
            <a:pPr marL="261720" indent="-261720">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Georgia"/>
              </a:rPr>
              <a:t>Se hizo un análisis de las normas que regulan la actividad partiendo de la Ley N°24.449 y su decreto reglamentario y la Resolución dictada por la Secretaría de Transporte de la Nación en su consecuencia. El Anexo I de la resolución previo que los certificados de inspección técnica podrán ser adquiridos por los propietarios de los vehículos en cualquiera de las delegaciones de la UTN (Universidad Tecnológica Nacional), o en los talleres habilitados a fin de realizar la inspección, fijando su valor de venta la CENT (Consultora Ejecutiva Nacional de Transporte) previa aprobación de la Secretaría de Transporte. De conformidad con el resultado de la inspección practicada, el Director Técnico del taller entregará a la empresa de transporte una copia firmada y sellada del certificado - en el que se dejará constancia de la aprobación y del vencimiento, y habilitará al vehículo para circular- y una oblea identificatoria. Finalmente los transportistas pactarán libremente con los talleres los honorarios por las tareas de verificación e inspección.</a:t>
            </a:r>
            <a:endParaRPr b="0" lang="en-US" sz="1700" spc="-1" strike="noStrike">
              <a:solidFill>
                <a:srgbClr val="000000"/>
              </a:solidFill>
              <a:latin typeface="Georgia"/>
            </a:endParaRPr>
          </a:p>
        </p:txBody>
      </p:sp>
      <p:sp>
        <p:nvSpPr>
          <p:cNvPr id="661"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0B2-D315-40F2-8B79-12F4065B171F}"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240"/>
            <a:ext cx="8534520" cy="1057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0253f"/>
                </a:solidFill>
                <a:latin typeface="Georgia"/>
              </a:rPr>
              <a:t>La explotación de una agencia que recibe apuestas hípicas se encuentra exenta del impuesto a las ganancias</a:t>
            </a:r>
            <a:endParaRPr b="0" lang="en-US" sz="2400" spc="-1" strike="noStrike">
              <a:solidFill>
                <a:srgbClr val="88a44d"/>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fontScale="96000"/>
          </a:bodyPr>
          <a:p>
            <a:pPr marL="261720" indent="-2617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Asociación Gremial de Profesionales de Turf”, CSN, 27/9/11</a:t>
            </a:r>
            <a:endParaRPr b="0" lang="en-US" sz="2000" spc="-1" strike="noStrike">
              <a:solidFill>
                <a:srgbClr val="000000"/>
              </a:solidFill>
              <a:latin typeface="Georgia"/>
            </a:endParaRPr>
          </a:p>
          <a:p>
            <a:pPr marL="261720" indent="-26172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La explotación de apuestas hípicas, realizadas por ciertos hipódromos mediante la adjudicación de un contrato de concesión por parte del Estado, se encuentra exenta del tributo (Art. 6º, inc j, ap 15 de la LIG), pues la norma legal, a los efectos de la procedencia de la franquicia, exige que el juego de azar sea explotado por el Fisco, sin distinguir si tal actividad es llevada adelante en forma directa o indirecta.</a:t>
            </a:r>
            <a:endParaRPr b="0" lang="en-US" sz="2700" spc="-1" strike="noStrike">
              <a:solidFill>
                <a:srgbClr val="000000"/>
              </a:solidFill>
              <a:latin typeface="Georgia"/>
            </a:endParaRPr>
          </a:p>
        </p:txBody>
      </p:sp>
      <p:sp>
        <p:nvSpPr>
          <p:cNvPr id="610"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EAC5-2C25-4A42-87FC-0E47D30242C3}"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31284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 inspección técnica vehicular y el IVA (II)</a:t>
            </a:r>
            <a:endParaRPr b="0" lang="en-US" sz="3300" spc="-1" strike="noStrike">
              <a:solidFill>
                <a:srgbClr val="88a44d"/>
              </a:solidFill>
              <a:latin typeface="Georgia"/>
            </a:endParaRPr>
          </a:p>
        </p:txBody>
      </p:sp>
      <p:sp>
        <p:nvSpPr>
          <p:cNvPr id="663" name=""/>
          <p:cNvSpPr txBox="1"/>
          <p:nvPr/>
        </p:nvSpPr>
        <p:spPr>
          <a:xfrm>
            <a:off x="214200" y="1500120"/>
            <a:ext cx="8786880" cy="4572000"/>
          </a:xfrm>
          <a:prstGeom prst="rect">
            <a:avLst/>
          </a:prstGeom>
          <a:noFill/>
          <a:ln w="0">
            <a:noFill/>
          </a:ln>
        </p:spPr>
        <p:txBody>
          <a:bodyPr anchor="t">
            <a:normAutofit fontScale="92000"/>
          </a:bodyPr>
          <a:p>
            <a:pPr marL="164880" indent="-164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En el caso de autos se está ante dos actividades completamente diferenciadas realizadas por sujetos distintos. En efecto, por un lado, los talleres ejercen exclusivamente la verificación técnica de los vehículos de pasajeros y cargas sujetos a jurisdicción nacional, es un todo de acuerdo con un sistema reglado, auditado y fiscalizado por el Estado Nacional. Por su parte, la Secretaría de Transporte ejerce la función de control público de un servicio de interés general mediante la emisión, venta y , principalmente, la autenticación de las obleas y certificados habilitantes para la circulación.</a:t>
            </a:r>
            <a:endParaRPr b="0" lang="en-US" sz="1500" spc="-1" strike="noStrike">
              <a:solidFill>
                <a:srgbClr val="000000"/>
              </a:solidFill>
              <a:latin typeface="Georgia"/>
            </a:endParaRPr>
          </a:p>
          <a:p>
            <a:pPr marL="164880" indent="-164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Del análisis de la operatoria surge que los conceptos facturados por la actora bajo el rubro "obleas y certificados" no pueden entenderse como remunerativas de un servicio, sino como la obtención de determinados documentos o constancia que la ley pone a su cargo a fin de que su actividad pueda ser llevada a cabo. Bajo tal perspectiva debe descartarse la posibilidad de que la entrega de las obleas y certificados constituyan una operación de venta, tal como lo pretende el Fisco ya que no se da en el caso lo dispuesto en el artículo 2° de la ley del gravamen que al definir la venta destaca que implica la transmisión del dominio de las cosas muebles, circunstancia que no acaece en autos toda vez que de la prueba acompañada queda acreditada que la CENT, en su carácter de órgano administrador del sistema de revisión técnica obligatoria provee la entrega a los talleres habilitados de las obleas y certificados mencionados. Previo a ello la UTN tramita la provisión y adquiere estos elementos resultando ser los mismos instrumentos públicos sobre los cuales el particular tiene el uso y goce, a simple título de tenedor de la cosa y representante de la posesión del propietario, lo cual surge de las funciones propias encomendadas a los talleres, conservando el Estado Nacional el carácter de poseedor a título de dueño.</a:t>
            </a:r>
            <a:endParaRPr b="0" lang="en-US" sz="1500" spc="-1" strike="noStrike">
              <a:solidFill>
                <a:srgbClr val="000000"/>
              </a:solidFill>
              <a:latin typeface="Georgia"/>
            </a:endParaRPr>
          </a:p>
        </p:txBody>
      </p:sp>
      <p:sp>
        <p:nvSpPr>
          <p:cNvPr id="664"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F3FE-665E-43DB-B71D-2E5613640B53}"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Confirmación de ajustes por precios de transferencia</a:t>
            </a:r>
            <a:endParaRPr b="0" lang="en-US" sz="3300" spc="-1" strike="noStrike">
              <a:solidFill>
                <a:srgbClr val="88a44d"/>
              </a:solidFill>
              <a:latin typeface="Georgia"/>
            </a:endParaRPr>
          </a:p>
        </p:txBody>
      </p:sp>
      <p:sp>
        <p:nvSpPr>
          <p:cNvPr id="666" name=""/>
          <p:cNvSpPr txBox="1"/>
          <p:nvPr/>
        </p:nvSpPr>
        <p:spPr>
          <a:xfrm>
            <a:off x="142560" y="1428840"/>
            <a:ext cx="9001080" cy="4572000"/>
          </a:xfrm>
          <a:prstGeom prst="rect">
            <a:avLst/>
          </a:prstGeom>
          <a:noFill/>
          <a:ln w="0">
            <a:noFill/>
          </a:ln>
        </p:spPr>
        <p:txBody>
          <a:bodyPr anchor="t">
            <a:normAutofit fontScale="91000"/>
          </a:bodyPr>
          <a:p>
            <a:pPr marL="248040" indent="-24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eorgia"/>
              </a:rPr>
              <a:t>Causa: “Nidera SA” TFN, del 26/9/11</a:t>
            </a:r>
            <a:endParaRPr b="0" lang="en-US" sz="1200" spc="-1" strike="noStrike">
              <a:solidFill>
                <a:srgbClr val="000000"/>
              </a:solidFill>
              <a:latin typeface="Georgia"/>
            </a:endParaRPr>
          </a:p>
          <a:p>
            <a:pPr marL="248040" indent="-248040">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Georgia"/>
              </a:rPr>
              <a:t>La cuestión de fondo radica en considerar si los importes a considerar a fin de determinar la materia imponible resultante de las operaciones de exportación que realiza la apelante, son los que surgen de aplicar las reglas del art. 8° de la ley del impuesto a las ganancias, como sostiene la misma, o si por el contrario, tales valores son los que corresponde determinar de acuerdo con el texto del art. 15 de dicha ley, conforme con la metodología que le introdujera la reforma debida a la ley N° 25.063 (BO 30/12/98), con la modificación aportada luego por la ley N° 25.784 (BO 22/10/03) que es el criterio sobre el cual se sustenta el fisco.</a:t>
            </a:r>
            <a:endParaRPr b="0" lang="en-US" sz="1300" spc="-1" strike="noStrike">
              <a:solidFill>
                <a:srgbClr val="000000"/>
              </a:solidFill>
              <a:latin typeface="Georgia"/>
            </a:endParaRPr>
          </a:p>
          <a:p>
            <a:pPr marL="248040" indent="-248040">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Georgia"/>
              </a:rPr>
              <a:t>La apelante indica que en todos los períodos ha cumplido en tiempo y forma con la presentación de las declaraciones juradas sobre precios de transferencia por la operaciones realizadas. En su escrito señala que los valores de referencia tomados por el fisco reconocen la misma fuente que los utilizados por ella, para luego precisar que "la diferencia del ajuste proyectado no surge del precio de referencia utilizados a los fines de la comparación sino de la diferencia temporal que puedan reflejar esos precios al momento de la concertación y del embarque“.</a:t>
            </a:r>
            <a:r>
              <a:rPr b="0" lang="es-AR" sz="1300" spc="-1" strike="noStrike">
                <a:solidFill>
                  <a:srgbClr val="000000"/>
                </a:solidFill>
                <a:latin typeface="Georgia"/>
              </a:rPr>
              <a:t> </a:t>
            </a:r>
            <a:endParaRPr b="0" lang="en-US" sz="1300" spc="-1" strike="noStrike">
              <a:solidFill>
                <a:srgbClr val="000000"/>
              </a:solidFill>
              <a:latin typeface="Georgia"/>
            </a:endParaRPr>
          </a:p>
          <a:p>
            <a:pPr marL="248040" indent="-248040">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Georgia"/>
              </a:rPr>
              <a:t>El fisco explica que para determinar el precio debe tomarse en cuenta que el art. 10 del Dto. Reglamentario establece a la salida e introducción de bienes en la plataforma continental, como parámetro para reajuste del precio de importación en la aplicación del art. 8</a:t>
            </a:r>
            <a:r>
              <a:rPr b="0" lang="es-ES_tradnl" sz="1300" spc="-1" strike="noStrike" baseline="30000">
                <a:solidFill>
                  <a:srgbClr val="000000"/>
                </a:solidFill>
                <a:latin typeface="Georgia"/>
              </a:rPr>
              <a:t>o</a:t>
            </a:r>
            <a:r>
              <a:rPr b="0" lang="es-ES_tradnl" sz="1300" spc="-1" strike="noStrike">
                <a:solidFill>
                  <a:srgbClr val="000000"/>
                </a:solidFill>
                <a:latin typeface="Georgia"/>
              </a:rPr>
              <a:t> de la ley, entendiendo que la exportación se perfecciona con la salida de los bienes del país y ello ocurre con el cumplido de embarque al finalizar la carga, siendo este el momento a tener en cuenta para efectuar la comparación de precios.</a:t>
            </a:r>
            <a:endParaRPr b="0" lang="en-US" sz="1300" spc="-1" strike="noStrike">
              <a:solidFill>
                <a:srgbClr val="000000"/>
              </a:solidFill>
              <a:latin typeface="Georgia"/>
            </a:endParaRPr>
          </a:p>
          <a:p>
            <a:pPr marL="248040" indent="-248040">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Georgia"/>
              </a:rPr>
              <a:t>Frente a carencias constatadas y que la prueba ofrecida en autos nada aporta respecto de la "fecha cierta" de los contratos, el fisco utilizó a los efectos de la comparación los precios que surgen de la factura al momento de oficializarse la exportación, ajustando el precio de aquellas operaciones de exportación en el caso de que éste fuera inferior al precio comparable, tomando en consideración para ello la fecha de salida de los bienes del país lo que acontece con el cumplido de embarque al finalizar la carga, conforme con lo establecido por el art. 10 del Dto.</a:t>
            </a:r>
            <a:endParaRPr b="0" lang="en-US" sz="1300" spc="-1" strike="noStrike">
              <a:solidFill>
                <a:srgbClr val="000000"/>
              </a:solidFill>
              <a:latin typeface="Georgia"/>
            </a:endParaRPr>
          </a:p>
          <a:p>
            <a:pPr marL="248040" indent="-248040">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Georgia"/>
              </a:rPr>
              <a:t>Frente a ello no se advierte que el método empleado por el fisco sea contrario a lo establecido en la normativa vigente a los períodos cuestionados y en tal sentido  -por mayoría-  se confirman las resoluciones apeladas en todas sus partes, con costas.</a:t>
            </a:r>
            <a:endParaRPr b="0" lang="en-US" sz="1300" spc="-1" strike="noStrike">
              <a:solidFill>
                <a:srgbClr val="000000"/>
              </a:solidFill>
              <a:latin typeface="Georgia"/>
            </a:endParaRPr>
          </a:p>
        </p:txBody>
      </p:sp>
      <p:sp>
        <p:nvSpPr>
          <p:cNvPr id="667"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DBDA-3C7E-406B-838C-924C35AC25C4}"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1420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Confirmación DO por facturas APOC</a:t>
            </a:r>
            <a:endParaRPr b="0" lang="en-US" sz="3300" spc="-1" strike="noStrike">
              <a:solidFill>
                <a:srgbClr val="88a44d"/>
              </a:solidFill>
              <a:latin typeface="Georgia"/>
            </a:endParaRPr>
          </a:p>
        </p:txBody>
      </p:sp>
      <p:sp>
        <p:nvSpPr>
          <p:cNvPr id="669" name=""/>
          <p:cNvSpPr txBox="1"/>
          <p:nvPr/>
        </p:nvSpPr>
        <p:spPr>
          <a:xfrm>
            <a:off x="142920" y="1500120"/>
            <a:ext cx="8858160" cy="4857840"/>
          </a:xfrm>
          <a:prstGeom prst="rect">
            <a:avLst/>
          </a:prstGeom>
          <a:noFill/>
          <a:ln w="0">
            <a:noFill/>
          </a:ln>
        </p:spPr>
        <p:txBody>
          <a:bodyPr anchor="t">
            <a:normAutofit fontScale="99000"/>
          </a:bodyPr>
          <a:p>
            <a:pPr marL="270000" indent="-2700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Honos Metodos SA” TFN, Sala “D” del 14/9/2011</a:t>
            </a:r>
            <a:endParaRPr b="0" lang="en-US" sz="1400" spc="-1" strike="noStrike">
              <a:solidFill>
                <a:srgbClr val="000000"/>
              </a:solidFill>
              <a:latin typeface="Georgia"/>
            </a:endParaRPr>
          </a:p>
          <a:p>
            <a:pPr marL="270000" indent="-27000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Se confirman las resoluciones mediante la cual el Fisco determinó de oficio la obligación de la recurrente frente a los impuestos al valor agregado, a las ganancias y salidas no documentadas.</a:t>
            </a:r>
            <a:endParaRPr b="0" lang="en-US" sz="1500" spc="-1" strike="noStrike">
              <a:solidFill>
                <a:srgbClr val="000000"/>
              </a:solidFill>
              <a:latin typeface="Georgia"/>
            </a:endParaRPr>
          </a:p>
          <a:p>
            <a:pPr marL="270000" indent="-27000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El fisco detectó irregularidades en las operaciones con distintos proveedores. En los recursos de apelación incoados, la actora solo expone los agravios referidos a los ajustes de dos proveedores, sin que haga mención alguna a los restantes proveedores que resultaron objetados (dentro de la nómina de proveedores había empresas vinculadas a la "Causa Penal Tributaria N° 2012-02 Goffredo Rubén Guillermo).</a:t>
            </a:r>
            <a:endParaRPr b="0" lang="en-US" sz="1500" spc="-1" strike="noStrike">
              <a:solidFill>
                <a:srgbClr val="000000"/>
              </a:solidFill>
              <a:latin typeface="Georgia"/>
            </a:endParaRPr>
          </a:p>
          <a:p>
            <a:pPr marL="270000" indent="-27000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Es la concurrencia de varios factores, precisos y concordantes, los que llevan a formar la convicción de estarse en presencia de operaciones fraguadas, esto es la falta de documentación que respalde las operaciones, que los pagos de los servicios/compras involucrados, si bien en la mayoría de los casos la recurrente emitió cheques a tal fin, fueron cobrados por personas vinculadas a la empresa recurrente.</a:t>
            </a:r>
            <a:endParaRPr b="0" lang="en-US" sz="1500" spc="-1" strike="noStrike">
              <a:solidFill>
                <a:srgbClr val="000000"/>
              </a:solidFill>
              <a:latin typeface="Georgia"/>
            </a:endParaRPr>
          </a:p>
          <a:p>
            <a:pPr marL="270000" indent="-27000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Frente a las anomalías constatadas por el Fisco es la actora quien debe justificar fehacientemente la existencia de los servicios que sostiene haber recibido y pagado, siendo la contratación de los mismos y las formalidades de la prestación, resorte exclusivo de su incumbencia y por lo tanto es a ella a quien le compete la demostración, sin que al respecto haya ofrecido prueba alguna al respecto.</a:t>
            </a:r>
            <a:endParaRPr b="0" lang="en-US" sz="1500" spc="-1" strike="noStrike">
              <a:solidFill>
                <a:srgbClr val="000000"/>
              </a:solidFill>
              <a:latin typeface="Georgia"/>
            </a:endParaRPr>
          </a:p>
          <a:p>
            <a:pPr marL="270000" indent="-27000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En sentido contrario: “Mera, Miguel Angel”, CCAF, Sala V.</a:t>
            </a:r>
            <a:endParaRPr b="0" lang="en-US" sz="1500" spc="-1" strike="noStrike">
              <a:solidFill>
                <a:srgbClr val="000000"/>
              </a:solidFill>
              <a:latin typeface="Georgia"/>
            </a:endParaRPr>
          </a:p>
        </p:txBody>
      </p:sp>
      <p:sp>
        <p:nvSpPr>
          <p:cNvPr id="670"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3EB0-A724-4AA7-96FA-A2759B4847E5}"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10253f"/>
                </a:solidFill>
                <a:latin typeface="Georgia"/>
              </a:rPr>
              <a:t>La ley antievasión como requisito para la procedencia de los beneficios fiscales</a:t>
            </a:r>
            <a:endParaRPr b="0" lang="en-US" sz="3200" spc="-1" strike="noStrike">
              <a:solidFill>
                <a:srgbClr val="88a44d"/>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fontScale="98000"/>
          </a:bodyPr>
          <a:p>
            <a:pPr marL="267120" indent="-2671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Tubos Argentinos SA”, CCAF, Sala II</a:t>
            </a:r>
            <a:endParaRPr b="0" lang="en-US" sz="14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La pretensión del contribuyente a que se aplique el artículo 34 de la Ley N ° 11.683 de Procedimiento Tributario, no puede prosperar "porque de la sola lectura de la norma invocada, se advierte que aquella se refiere a condiciones que impongan el Poder Ejecutivo Nacional, y la regla que aplicó la demandada está dispuesta por ley formal“.</a:t>
            </a:r>
            <a:endParaRPr b="0" lang="en-US" sz="18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No se advierte colisión normativa entre lo dispuesto en la ley Antievasión N° 25.345, con lo dispuesto por el artículo 34 de la Ley procedimental, al referirse  a las condiciones que impongan la autoridad administrativa en uso de la facultad reglamentaria otorgada, que, como es evidente y en virtud de la jerarquía normativa, no podrá alterar las condiciones establecidas por la Ley N</a:t>
            </a:r>
            <a:r>
              <a:rPr b="0" lang="es-ES_tradnl" sz="1800" spc="-1" strike="noStrike" baseline="30000">
                <a:solidFill>
                  <a:srgbClr val="000000"/>
                </a:solidFill>
                <a:latin typeface="Georgia"/>
              </a:rPr>
              <a:t>0</a:t>
            </a:r>
            <a:r>
              <a:rPr b="0" lang="es-ES_tradnl" sz="1800" spc="-1" strike="noStrike">
                <a:solidFill>
                  <a:srgbClr val="000000"/>
                </a:solidFill>
                <a:latin typeface="Georgia"/>
              </a:rPr>
              <a:t> 25.345.</a:t>
            </a:r>
            <a:endParaRPr b="0" lang="en-US" sz="18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Los contribuyentes para poder computar las deducciones en el Impuesto a las Ganancias o el crédito fiscal en el IVA deberán efectuar los pagos a sus proveedores exclusivamente mediante instrumentos bancarios.</a:t>
            </a:r>
            <a:endParaRPr b="0" lang="en-US" sz="18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sentido contrario: “Mera, Miguel Angel” CCAF, Sala V.</a:t>
            </a:r>
            <a:endParaRPr b="0" lang="en-US" sz="1800" spc="-1" strike="noStrike">
              <a:solidFill>
                <a:srgbClr val="000000"/>
              </a:solidFill>
              <a:latin typeface="Georgia"/>
            </a:endParaRPr>
          </a:p>
        </p:txBody>
      </p:sp>
      <p:sp>
        <p:nvSpPr>
          <p:cNvPr id="673"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AE8F-4CFD-4679-9AFD-B30E07F15AD3}"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Reconocimiento de la exención tributaria de una mutual (I)</a:t>
            </a:r>
            <a:endParaRPr b="0" lang="en-US" sz="3300" spc="-1" strike="noStrike">
              <a:solidFill>
                <a:srgbClr val="88a44d"/>
              </a:solidFill>
              <a:latin typeface="Georgia"/>
            </a:endParaRPr>
          </a:p>
        </p:txBody>
      </p:sp>
      <p:sp>
        <p:nvSpPr>
          <p:cNvPr id="675" name=""/>
          <p:cNvSpPr txBox="1"/>
          <p:nvPr/>
        </p:nvSpPr>
        <p:spPr>
          <a:xfrm>
            <a:off x="214200" y="1527120"/>
            <a:ext cx="8715600" cy="4572000"/>
          </a:xfrm>
          <a:prstGeom prst="rect">
            <a:avLst/>
          </a:prstGeom>
          <a:noFill/>
          <a:ln w="0">
            <a:noFill/>
          </a:ln>
        </p:spPr>
        <p:txBody>
          <a:bodyPr anchor="t">
            <a:normAutofit fontScale="94000"/>
          </a:bodyPr>
          <a:p>
            <a:pPr marL="256320" indent="-2563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Mutual de socios Credivico” CSN, 13/9/2011</a:t>
            </a:r>
            <a:endParaRPr b="0" lang="en-US" sz="1400" spc="-1" strike="noStrike">
              <a:solidFill>
                <a:srgbClr val="000000"/>
              </a:solidFill>
              <a:latin typeface="Georgia"/>
            </a:endParaRPr>
          </a:p>
          <a:p>
            <a:pPr marL="256320" indent="-2563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s asociaciones mutuales se encuentran beneficiadas, en principio, por la exención genérica prevista por el arto 29 de la ley 20.321, y por la específica contemplada en el arto 20 inc. g). de la ley del impuesto a las ganancias (t.o. en 1997).</a:t>
            </a:r>
            <a:endParaRPr b="0" lang="en-US" sz="1800" spc="-1" strike="noStrike">
              <a:solidFill>
                <a:srgbClr val="000000"/>
              </a:solidFill>
              <a:latin typeface="Georgia"/>
            </a:endParaRPr>
          </a:p>
          <a:p>
            <a:pPr marL="256320" indent="-2563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arácter de sujeto exento estará dado por el encuadramiento de la entidad actora en las previsiones de dichas normas y no por la circunstancia de que cuente o deje de contar con una resolución del ente recaudador que declare explícitamente que reviste esa calidad. Ello sin perjuicio de la función que pueda cumplir una declaración de esa clase en lo relativo a clarificar lo atinente a deberes formales y obligaciones derivadas de pagos o cobros a terceros. (Fallos: 325:3092 y 322:2173).</a:t>
            </a:r>
            <a:endParaRPr b="0" lang="en-US" sz="1800" spc="-1" strike="noStrike">
              <a:solidFill>
                <a:srgbClr val="000000"/>
              </a:solidFill>
              <a:latin typeface="Georgia"/>
            </a:endParaRPr>
          </a:p>
          <a:p>
            <a:pPr marL="256320" indent="-2563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El mantenimiento de la resolución administrativa que reconoció a la actora como exenta o el previo aviso al INAES requerido por la sentencia impugnada, no obstan a que el organismo recaudador ejerza respecto del contribuyente las potestades de fiscalización y verificación que le otorga la ley 11.683 confr. arts. 33 a 36 en el texto ordenado en 1998, tal como efectivamente lo ha hecho.</a:t>
            </a:r>
            <a:endParaRPr b="0" lang="en-US" sz="1800" spc="-1" strike="noStrike">
              <a:solidFill>
                <a:srgbClr val="000000"/>
              </a:solidFill>
              <a:latin typeface="Georgia"/>
            </a:endParaRPr>
          </a:p>
        </p:txBody>
      </p:sp>
      <p:sp>
        <p:nvSpPr>
          <p:cNvPr id="676"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E678-AB58-4853-B5F7-32738A84C406}"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357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Reconocimiento de la exención tributaria de una mutual (II)</a:t>
            </a:r>
            <a:endParaRPr b="0" lang="en-US" sz="3300" spc="-1" strike="noStrike">
              <a:solidFill>
                <a:srgbClr val="88a44d"/>
              </a:solidFill>
              <a:latin typeface="Georgia"/>
            </a:endParaRPr>
          </a:p>
        </p:txBody>
      </p:sp>
      <p:sp>
        <p:nvSpPr>
          <p:cNvPr id="678" name=""/>
          <p:cNvSpPr txBox="1"/>
          <p:nvPr/>
        </p:nvSpPr>
        <p:spPr>
          <a:xfrm>
            <a:off x="214200" y="1571760"/>
            <a:ext cx="8715600" cy="4572000"/>
          </a:xfrm>
          <a:prstGeom prst="rect">
            <a:avLst/>
          </a:prstGeom>
          <a:noFill/>
          <a:ln w="0">
            <a:noFill/>
          </a:ln>
        </p:spPr>
        <p:txBody>
          <a:bodyPr anchor="t">
            <a:normAutofit fontScale="95000"/>
          </a:bodyPr>
          <a:p>
            <a:pPr marL="170280" indent="-17028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El ya citado reconocimiento tampoco impidió la sustanciación del procedimiento de determinación de oficio, como lo acredita el informe producido por el organismo recaudador, donde pone en conocimiento del juez de grado que las actuaciones que dieron origen al acto administrativo aquí impugnado son también las que sustentaron la determinación de oficio apelada por el contribuyente ante el Tribunal Fiscal de la Nación, donde tramita bajo el número de expediente 19.319-1. Ello, obviamente, sin perjuicio de lo que pueda decidirse en él respecto de la dispensa invocada por la actora, para lo cual lo relevante no será la subsistencia formal de esa resolución sino la adecuación sustancial de aquella entidad a lo prescripto en las normas que establecen el beneficio (Fallos: 322:2173, cons.8").</a:t>
            </a:r>
            <a:endParaRPr b="0" lang="en-US" sz="1600" spc="-1" strike="noStrike">
              <a:solidFill>
                <a:srgbClr val="000000"/>
              </a:solidFill>
              <a:latin typeface="Georgia"/>
            </a:endParaRPr>
          </a:p>
          <a:p>
            <a:pPr marL="170280" indent="-17028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Los agravios desarrollados por el Fisco Nacional no resultan suficientes y actuales para el sostenimiento del recurso extraordinario que ha impetrado pues, como surge de lo expresado, lo decidido por la Cámara no le impide ejercer, respecto de la actora, las facultades legales que le competen para valorar la corrección de su conducta tributaria. Con tal comprensión, será en el ámbito del procedimiento de determinación de oficio y en sus instancias recursivas posteriores, donde habrá de dilucidarse lo referente a las cuestionadas franquicias.</a:t>
            </a:r>
            <a:endParaRPr b="0" lang="en-US" sz="1600" spc="-1" strike="noStrike">
              <a:solidFill>
                <a:srgbClr val="000000"/>
              </a:solidFill>
              <a:latin typeface="Georgia"/>
            </a:endParaRPr>
          </a:p>
          <a:p>
            <a:pPr marL="170280" indent="-170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	</a:t>
            </a:r>
            <a:r>
              <a:rPr b="0" lang="es-ES_tradnl" sz="1600" spc="-1" strike="noStrike">
                <a:solidFill>
                  <a:srgbClr val="000000"/>
                </a:solidFill>
                <a:latin typeface="Georgia"/>
              </a:rPr>
              <a:t>NOTA: decisión de la CSN adhiriendo al Dictamen de la Procuradora Fiscal (Laura Monti) del 2/3/2011. Fallo confirmatorio del de TFN y CCAF.</a:t>
            </a:r>
            <a:endParaRPr b="0" lang="en-US" sz="1600" spc="-1" strike="noStrike">
              <a:solidFill>
                <a:srgbClr val="000000"/>
              </a:solidFill>
              <a:latin typeface="Georgia"/>
            </a:endParaRPr>
          </a:p>
        </p:txBody>
      </p:sp>
      <p:sp>
        <p:nvSpPr>
          <p:cNvPr id="679"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9AAA-9E40-4F09-8ED1-911141D44B03}"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s ejecuciones fiscales CABA y el exceso de ritual manifiesto</a:t>
            </a:r>
            <a:endParaRPr b="0" lang="en-US" sz="3300" spc="-1" strike="noStrike">
              <a:solidFill>
                <a:srgbClr val="88a44d"/>
              </a:solidFill>
              <a:latin typeface="Georgia"/>
            </a:endParaRPr>
          </a:p>
        </p:txBody>
      </p:sp>
      <p:sp>
        <p:nvSpPr>
          <p:cNvPr id="681" name=""/>
          <p:cNvSpPr txBox="1"/>
          <p:nvPr/>
        </p:nvSpPr>
        <p:spPr>
          <a:xfrm>
            <a:off x="301320" y="1526760"/>
            <a:ext cx="8504280" cy="4830840"/>
          </a:xfrm>
          <a:prstGeom prst="rect">
            <a:avLst/>
          </a:prstGeom>
          <a:noFill/>
          <a:ln w="0">
            <a:noFill/>
          </a:ln>
        </p:spPr>
        <p:txBody>
          <a:bodyPr anchor="t">
            <a:normAutofit fontScale="98000"/>
          </a:bodyPr>
          <a:p>
            <a:pPr marL="267120" indent="-2671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Savaglio TBWA y Asoc SA” TSJ CABA, 22/6/11</a:t>
            </a:r>
            <a:endParaRPr b="0" lang="en-US" sz="16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Se revoca el decisorio de la Cámara de Apelaciones en lo Contencioso Administrativo y Tributario (CACAT), Sala I, ordenando llevar adelante la ejecución, en razón de que habiéndose reconocido la existencia de cosa juzgada administrativa, se debieron desestimar los planteos de la ejecutada por extemporáneos.</a:t>
            </a:r>
            <a:endParaRPr b="0" lang="en-US" sz="18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Considerar y evaluar en el caso (multa por defraudación fiscal por retenciones IIBB, con retraso menor y en el marco del corralito financiero), el carácter espontáneo o no de los pagos, la cantidad de días de atraso de los depósitos, la situación financiera-económica del país y la intención de defraudar o no al Fisco implicó analizar la causa de la obligación, excediendo el marco del juicio ejecutivo (Voto de la mayoría, Ruiz, Conde y Centanaro).</a:t>
            </a:r>
            <a:endParaRPr b="0" lang="en-US" sz="1800" spc="-1" strike="noStrike">
              <a:solidFill>
                <a:srgbClr val="000000"/>
              </a:solidFill>
              <a:latin typeface="Georgia"/>
            </a:endParaRPr>
          </a:p>
          <a:p>
            <a:pPr marL="267120" indent="-26712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No puede prosperar una ejecución fiscal ante la inexistencia o inexigibilidad de deuda,  más allá de que para ello debe enervarse la prosecución de legitimidad del título ejecutivo que le da sustento aparente (Voto de la minoría, Casas y Lozano).</a:t>
            </a:r>
            <a:endParaRPr b="0" lang="en-US" sz="1800" spc="-1" strike="noStrike">
              <a:solidFill>
                <a:srgbClr val="000000"/>
              </a:solidFill>
              <a:latin typeface="Georgia"/>
            </a:endParaRPr>
          </a:p>
        </p:txBody>
      </p:sp>
      <p:sp>
        <p:nvSpPr>
          <p:cNvPr id="682"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FCDC-7E7D-4997-AB63-32DA84FFD2C0}"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428400"/>
            <a:ext cx="869940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10253f"/>
                </a:solidFill>
                <a:latin typeface="Georgia"/>
              </a:rPr>
              <a:t>Improcedencia de la acción declarativa de inconstitucionalidad en el ámbito de CABA por la derogación de la tasa 0% para actividades industriales</a:t>
            </a:r>
            <a:endParaRPr b="0" lang="en-US" sz="2000" spc="-1" strike="noStrike">
              <a:solidFill>
                <a:srgbClr val="88a44d"/>
              </a:solidFill>
              <a:latin typeface="Georgia"/>
            </a:endParaRPr>
          </a:p>
        </p:txBody>
      </p:sp>
      <p:sp>
        <p:nvSpPr>
          <p:cNvPr id="684" name=""/>
          <p:cNvSpPr txBox="1"/>
          <p:nvPr/>
        </p:nvSpPr>
        <p:spPr>
          <a:xfrm>
            <a:off x="142560" y="1499760"/>
            <a:ext cx="9001080" cy="5000760"/>
          </a:xfrm>
          <a:prstGeom prst="rect">
            <a:avLst/>
          </a:prstGeom>
          <a:noFill/>
          <a:ln w="0">
            <a:noFill/>
          </a:ln>
        </p:spPr>
        <p:txBody>
          <a:bodyPr anchor="t">
            <a:normAutofit fontScale="99000"/>
          </a:bodyPr>
          <a:p>
            <a:pPr marL="270000" indent="-2700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Valot SA” TSJ CABA del 2/8/2011</a:t>
            </a:r>
            <a:endParaRPr b="0" lang="en-US" sz="1400" spc="-1" strike="noStrike">
              <a:solidFill>
                <a:srgbClr val="000000"/>
              </a:solidFill>
              <a:latin typeface="Georgia"/>
            </a:endParaRPr>
          </a:p>
          <a:p>
            <a:pPr marL="270000" indent="-270000">
              <a:spcBef>
                <a:spcPts val="349"/>
              </a:spcBef>
              <a:buClr>
                <a:srgbClr val="4f81bd"/>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rresponde rechazar la acción declarativa de inconstitucionalidad  planteada, en virtud de una supuesta afectación del principio de proporcionalidad, al tenerse en cuenta por parte del legislador la capacidad contributiva de las empresas, que no tributan si el monto determinado es menor a $20.000.000 anuales de ingresos.</a:t>
            </a:r>
            <a:endParaRPr b="0" lang="en-US" sz="1400" spc="-1" strike="noStrike">
              <a:solidFill>
                <a:srgbClr val="000000"/>
              </a:solidFill>
              <a:latin typeface="Georgia"/>
            </a:endParaRPr>
          </a:p>
          <a:p>
            <a:pPr marL="270000" indent="-270000">
              <a:spcBef>
                <a:spcPts val="349"/>
              </a:spcBef>
              <a:buClr>
                <a:srgbClr val="4f81bd"/>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Si bien la Constitución determina que la ley convenio de coparticipación federal instituirá regímenes de coparticipación de las contribuciones sobre la base de acuerdos entre la Nación y las provincias, no implica que el Pacto Federal para el Empleo, la Producción y el Crecimiento, se le haya asignado rango constitucional.</a:t>
            </a:r>
            <a:endParaRPr b="0" lang="en-US" sz="1400" spc="-1" strike="noStrike">
              <a:solidFill>
                <a:srgbClr val="000000"/>
              </a:solidFill>
              <a:latin typeface="Georgia"/>
            </a:endParaRPr>
          </a:p>
          <a:p>
            <a:pPr marL="270000" indent="-270000">
              <a:spcBef>
                <a:spcPts val="349"/>
              </a:spcBef>
              <a:buClr>
                <a:srgbClr val="4f81bd"/>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Tampoco corresponde otorgarle al Pacto una categoría normativa superior a la ley local que habilita el tratamiento de una cuestión susceptible de ser analizada por la vía prevista en el Art. 113, inc 2º de la CABA.</a:t>
            </a:r>
            <a:endParaRPr b="0" lang="en-US" sz="1400" spc="-1" strike="noStrike">
              <a:solidFill>
                <a:srgbClr val="000000"/>
              </a:solidFill>
              <a:latin typeface="Georgia"/>
            </a:endParaRPr>
          </a:p>
          <a:p>
            <a:pPr marL="270000" indent="-270000">
              <a:spcBef>
                <a:spcPts val="349"/>
              </a:spcBef>
              <a:buClr>
                <a:srgbClr val="4f81bd"/>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regla de igualdad no es absoluta, ya que el legislador puede tener en cuenta la diversidad de circunstancias, condi­ciones o diferencias que pueden presentarse a consideración, y emitir regulaciones diferenciadas; lo que aquella regla consagra es la obligación de igualar a todas las personas afectadas por una medida, dentro de la categoría, grupo o clasificación que les corresponda, evitando distinciones arbitrarias u hostiles (del voto de la doctora Conde).</a:t>
            </a:r>
            <a:endParaRPr b="0" lang="en-US" sz="1400" spc="-1" strike="noStrike">
              <a:solidFill>
                <a:srgbClr val="000000"/>
              </a:solidFill>
              <a:latin typeface="Georgia"/>
            </a:endParaRPr>
          </a:p>
          <a:p>
            <a:pPr marL="270000" indent="-270000">
              <a:spcBef>
                <a:spcPts val="349"/>
              </a:spcBef>
              <a:buClr>
                <a:srgbClr val="4f81bd"/>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ara evaluar si una discriminación es compatible con el principio de igualdad, debe utilizarse la regla de razonabilidad: el legislador puede crear categorías, grupos o clasificaciones que irroguen trato diferente entre los habitantes, siempre y cuando el criterio empleado para discriminar sea "razonable", fundado en pautas objetivas, aun cuando su fundamento sea opinable (del voto de la doctora Conde)</a:t>
            </a:r>
            <a:endParaRPr b="0" lang="en-US" sz="1400" spc="-1" strike="noStrike">
              <a:solidFill>
                <a:srgbClr val="000000"/>
              </a:solidFill>
              <a:latin typeface="Georgia"/>
            </a:endParaRPr>
          </a:p>
        </p:txBody>
      </p:sp>
      <p:sp>
        <p:nvSpPr>
          <p:cNvPr id="685"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B209-9883-4221-B0BA-87A43822E387}"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384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s medidas cautelares en el contencioso tributario CABA (I)</a:t>
            </a:r>
            <a:endParaRPr b="0" lang="en-US" sz="3300" spc="-1" strike="noStrike">
              <a:solidFill>
                <a:srgbClr val="88a44d"/>
              </a:solidFill>
              <a:latin typeface="Georgia"/>
            </a:endParaRPr>
          </a:p>
        </p:txBody>
      </p:sp>
      <p:sp>
        <p:nvSpPr>
          <p:cNvPr id="687" name=""/>
          <p:cNvSpPr txBox="1"/>
          <p:nvPr/>
        </p:nvSpPr>
        <p:spPr>
          <a:xfrm>
            <a:off x="142920" y="1428840"/>
            <a:ext cx="8786880" cy="4572000"/>
          </a:xfrm>
          <a:prstGeom prst="rect">
            <a:avLst/>
          </a:prstGeom>
          <a:noFill/>
          <a:ln w="0">
            <a:noFill/>
          </a:ln>
        </p:spPr>
        <p:txBody>
          <a:bodyPr anchor="t">
            <a:normAutofit fontScale="89000"/>
          </a:bodyPr>
          <a:p>
            <a:pPr marL="242640" indent="-2426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Transportadora Cuyana SA” CNACAF, Sala V del 2/8/11</a:t>
            </a:r>
            <a:endParaRPr b="0" lang="en-US" sz="1200" spc="-1" strike="noStrike">
              <a:solidFill>
                <a:srgbClr val="000000"/>
              </a:solidFill>
              <a:latin typeface="Georgia"/>
            </a:endParaRPr>
          </a:p>
          <a:p>
            <a:pPr marL="242640" indent="-2426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s medidas cautelares requieren para su procedencia la verificación de los extremos previstos en el artículo 230 del Código Procesal Civil y Comercial de la Nación, esto es, la verosimilitud del derecho invocado y el peligro de un daño irreparable en la demora. En particular, cuando la pretensión se intenta frente a otros poderes del Estado, es necesario que se acredite prima facie, y sin que esto suponga un prejuzgamiento de la cuestión de fondo, la manifiesta arbitrariedad del acto, dado el rigor con el que debe apreciarse la concurrencia de los supuestos que la tornan admisible y ello es así porque sus actos gozan de presunción de legitimidad y fuerza ejecutoria (conf. Fallos: 323:4192). </a:t>
            </a:r>
            <a:endParaRPr b="0" lang="en-US" sz="1400" spc="-1" strike="noStrike">
              <a:solidFill>
                <a:srgbClr val="000000"/>
              </a:solidFill>
              <a:latin typeface="Georgia"/>
            </a:endParaRPr>
          </a:p>
          <a:p>
            <a:pPr marL="242640" indent="-2426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 los efectos de verificar la verosimilitud del derecho debe tenerse presente que a los fines de la medida cautelar solicitada no se requiere la certeza de la existencia del derecho invocado, sino sólo si éste tiene apariencia de buen derecho, que es lo único que cabe determinar en este estado larval del proceso y más allá de lo que en definitiva corresponda resolver sobre el fondo en el momento procesal oportuno. </a:t>
            </a:r>
            <a:endParaRPr b="0" lang="en-US" sz="1400" spc="-1" strike="noStrike">
              <a:solidFill>
                <a:srgbClr val="000000"/>
              </a:solidFill>
              <a:latin typeface="Georgia"/>
            </a:endParaRPr>
          </a:p>
          <a:p>
            <a:pPr marL="242640" indent="-24264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 los fines de evaluar la presencia en autos del requisito indicado, cabe señalar que el artículo 12 de la ley 15.336, de Energía Eléctrica dispone que: “Las obras e instalaciones de generación, transformación y transmisión de la energía eléctrica de jurisdicción nacional y la energía generada o transportada en las mismas no pueden ser gravadas con impuestos y contribuciones, o sujetas a medidas de legislación local que restrinjan o dificulten su libre producción y circulación. No se comprende en esta exención las tasas retributivas por servicios y mejoras de orden local”. De tal modo, el tributo que la Administración Gubernamental de Ingresos Públicos dependiente del Gobierno de la Ciudad Autónoma dé Buenos Aires pretende ejecutar a la firma actora parecería encuadrar prima facie, y sin que ello importe un juicio de certeza, en la exención contenida en el artículo citado en el párrafo anterior y en lo dispuesto en el artículo 45 del Contrato de Construcción, Operación y Mantenimiento de la Interconexión Eléctrica Gran Mendoza — San Juan. </a:t>
            </a:r>
            <a:endParaRPr b="0" lang="en-US" sz="1400" spc="-1" strike="noStrike">
              <a:solidFill>
                <a:srgbClr val="000000"/>
              </a:solidFill>
              <a:latin typeface="Georgia"/>
            </a:endParaRPr>
          </a:p>
        </p:txBody>
      </p:sp>
      <p:sp>
        <p:nvSpPr>
          <p:cNvPr id="688"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8F3E-39B8-45FD-AB46-3865C5E4B7DE}"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s medidas cautelares en el contencioso tributario CABA (II)</a:t>
            </a:r>
            <a:endParaRPr b="0" lang="en-US" sz="3300" spc="-1" strike="noStrike">
              <a:solidFill>
                <a:srgbClr val="88a44d"/>
              </a:solidFill>
              <a:latin typeface="Georgia"/>
            </a:endParaRPr>
          </a:p>
        </p:txBody>
      </p:sp>
      <p:sp>
        <p:nvSpPr>
          <p:cNvPr id="690" name=""/>
          <p:cNvSpPr txBox="1"/>
          <p:nvPr/>
        </p:nvSpPr>
        <p:spPr>
          <a:xfrm>
            <a:off x="142920" y="1428480"/>
            <a:ext cx="8786880" cy="5143320"/>
          </a:xfrm>
          <a:prstGeom prst="rect">
            <a:avLst/>
          </a:prstGeom>
          <a:noFill/>
          <a:ln w="0">
            <a:noFill/>
          </a:ln>
        </p:spPr>
        <p:txBody>
          <a:bodyPr anchor="t">
            <a:normAutofit/>
          </a:bodyPr>
          <a:p>
            <a:pPr marL="272880" indent="-272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Lo expuesto es suficiente para tener por acreditada la verosimilitud del derecho invocado quedando satisfecho el primero de los dos recaudos exigido por la ley de rito para conceder una medida cautelar. </a:t>
            </a:r>
            <a:endParaRPr b="0" lang="en-US" sz="1500" spc="-1" strike="noStrike">
              <a:solidFill>
                <a:srgbClr val="000000"/>
              </a:solidFill>
              <a:latin typeface="Georgia"/>
            </a:endParaRPr>
          </a:p>
          <a:p>
            <a:pPr marL="272880" indent="-272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Previo a ingresar al análisis del otro presupuesto constitutivo de las medidas cautelares, es menester señalar que, los extremos que justifican la concesión de este tipo de tutelas se encuentran de tal modo relacionados que a mayor concurrencia de uno no resulta procedente —en forma correlativa— ser tan exigente con la verificación del restante, y —de tal modo—, a mayor verosimilitud del derecho cabe no ser tan exigentes en la gravedad e inminencia del daño y, viceversa (Esta Sala. in re: “Arrieta, Daniel Carlos c/ E.N. —PFA (Orden Día 229/06)— s/ Personal Militar y Civil de las F.F.A.A. y de Seg.”, del 12/05/09). </a:t>
            </a:r>
            <a:endParaRPr b="0" lang="en-US" sz="1500" spc="-1" strike="noStrike">
              <a:solidFill>
                <a:srgbClr val="000000"/>
              </a:solidFill>
              <a:latin typeface="Georgia"/>
            </a:endParaRPr>
          </a:p>
          <a:p>
            <a:pPr marL="272880" indent="-272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Al ser ello así, y teniendo en cuenta las argumentaciones efectuadas para acreditar el peligro en la demora, si se denegara la tutela cautelar y eventualmente se dictara una sentencia de ejecución fiscal, por el tributo determinado (más sus intereses y multa), la actora se vería expuesta a un reclamo cuya procedencia cuestiona sobre bases prima facie verosímiles, a partir de normas federales de aparente aplicación al caso de autos. </a:t>
            </a:r>
            <a:endParaRPr b="0" lang="en-US" sz="1500" spc="-1" strike="noStrike">
              <a:solidFill>
                <a:srgbClr val="000000"/>
              </a:solidFill>
              <a:latin typeface="Georgia"/>
            </a:endParaRPr>
          </a:p>
          <a:p>
            <a:pPr marL="272880" indent="-272880">
              <a:spcBef>
                <a:spcPts val="37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Se revoca la resolución dictada, y hacer lugar a la medida cautelar solicitada por la parte actora, ordenando cautelarmente a la Administración Gubernamental de Ingresos Públicos (AGIP) de la Ciudad Autónoma de Buenos Aires que se” abstenga de iniciar proceso de ejecución fiscal o trabar medidas cautelares, respecto del Impuesto sobre los Ingresos Brutos (ISIB) correspondiente a los períodos fiscales 2006 (4° a 12° ants. Mens.) y 2007 (1° a 8° y 10° ants. Mens.), hasta que se dicte sentencia definitiva en estas actuaciones. </a:t>
            </a:r>
            <a:endParaRPr b="0" lang="en-US" sz="1500" spc="-1" strike="noStrike">
              <a:solidFill>
                <a:srgbClr val="000000"/>
              </a:solidFill>
              <a:latin typeface="Georgia"/>
            </a:endParaRPr>
          </a:p>
        </p:txBody>
      </p:sp>
      <p:sp>
        <p:nvSpPr>
          <p:cNvPr id="691"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C106-56C6-4E7C-B67C-CE9E813DEDB2}"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85840" y="5270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0253f"/>
                </a:solidFill>
                <a:latin typeface="Georgia"/>
              </a:rPr>
              <a:t>La cesión del derecho de uso de espacios en bienes del dominio público afectados a una concesión en el IVA  (I)</a:t>
            </a:r>
            <a:endParaRPr b="0" lang="en-US" sz="2400" spc="-1" strike="noStrike">
              <a:solidFill>
                <a:srgbClr val="88a44d"/>
              </a:solidFill>
              <a:latin typeface="Georgia"/>
            </a:endParaRPr>
          </a:p>
        </p:txBody>
      </p:sp>
      <p:sp>
        <p:nvSpPr>
          <p:cNvPr id="612" name=""/>
          <p:cNvSpPr txBox="1"/>
          <p:nvPr/>
        </p:nvSpPr>
        <p:spPr>
          <a:xfrm>
            <a:off x="142920" y="1356840"/>
            <a:ext cx="8858160" cy="5072040"/>
          </a:xfrm>
          <a:prstGeom prst="rect">
            <a:avLst/>
          </a:prstGeom>
          <a:noFill/>
          <a:ln w="0">
            <a:noFill/>
          </a:ln>
        </p:spPr>
        <p:txBody>
          <a:bodyPr anchor="t">
            <a:normAutofit fontScale="94000"/>
          </a:bodyPr>
          <a:p>
            <a:pPr marL="256320" indent="-2563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Metrovias SA” CSN, 27/9/11</a:t>
            </a:r>
            <a:endParaRPr b="0" lang="en-US" sz="1200" spc="-1" strike="noStrike">
              <a:solidFill>
                <a:srgbClr val="000000"/>
              </a:solidFill>
              <a:latin typeface="Georgia"/>
            </a:endParaRPr>
          </a:p>
          <a:p>
            <a:pPr marL="256320" indent="-2563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 organismo recaudador consideró que los contratos celebrados por Metrovías S.A. con terceros por medio de los cuales cedió el uso —para fines comerciales— de espacios y locales en bienes del dominio público afectados a la explotación del servicio de subterráneos de Buenos Aires y del Ferrocarril General Urquiza no estaban exentos del impuesto al valor agregado —contrariamente al criterio de la actora que consideró aplicable el beneficio dispuesto en el apartado 24 del inc. j del art. 6º de la ley del tributo (actual apartado 23 del inc. h del art. 7º, t.o. en 1997)— sino que estaban gravados de conformidad con el apartado 20 del inc. e del art. 3º de la ley (actual apartado 21, t.o. en 1997).  </a:t>
            </a:r>
            <a:endParaRPr b="0" lang="en-US" sz="1400" spc="-1" strike="noStrike">
              <a:solidFill>
                <a:srgbClr val="000000"/>
              </a:solidFill>
              <a:latin typeface="Georgia"/>
            </a:endParaRPr>
          </a:p>
          <a:p>
            <a:pPr marL="256320" indent="-2563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 TFN confirmó las determinaciones de oficio practicadas por la AFIP-DGI, excepto en lo relativo a la aplicación de sanciones, las que fueron revocadas considerando que si bien la actora se encontraba habilitada por el contrato de concesión para desarrollar una serie de actos comerciales vinculados con la explotación del servicio concedido —entre los cuales se encontraba la posibilidad de ceder el uso de los respectivos derechos a terceros, a fin de que éstos los lleven a cabo— ellos no podían ser tratados como la concesión misma sino que debían someterse al tratamiento que la ley de impuesto al valor agregado prevé para aquéllos.</a:t>
            </a:r>
            <a:endParaRPr b="0" lang="en-US" sz="1400" spc="-1" strike="noStrike">
              <a:solidFill>
                <a:srgbClr val="000000"/>
              </a:solidFill>
              <a:latin typeface="Georgia"/>
            </a:endParaRPr>
          </a:p>
          <a:p>
            <a:pPr marL="256320" indent="-2563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consecuencia, consideró que no correspondía examinar el alcance de la exención que la ley del tributo dispensa “al otorgamiento de concesiones” por tratarse de una cesión de derechos relativa al uso o goce de la explotación comercial que se halla alcanzada por el gravamen en virtud del art. 3º, inc. e, apartado 20 —actual 21— de la ley.</a:t>
            </a:r>
            <a:endParaRPr b="0" lang="en-US" sz="1400" spc="-1" strike="noStrike">
              <a:solidFill>
                <a:srgbClr val="000000"/>
              </a:solidFill>
              <a:latin typeface="Georgia"/>
            </a:endParaRPr>
          </a:p>
          <a:p>
            <a:pPr marL="256320" indent="-2563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tal sentido entendió que las cesiones se encontraban comprendidas en las previsiones de su último párrafo en cuanto refiere que “cuando se trata de locaciones o prestaciones gravadas, quedan comprendidos los servicios conexos o relacionados con ellos y las transferencias o cesiones del uso o goce de derechos de la propiedad intelectual, industrial o comercial, con exclusión de los derechos de autor de escritores y músicos” </a:t>
            </a:r>
            <a:endParaRPr b="0" lang="en-US" sz="1400" spc="-1" strike="noStrike">
              <a:solidFill>
                <a:srgbClr val="000000"/>
              </a:solidFill>
              <a:latin typeface="Georgia"/>
            </a:endParaRPr>
          </a:p>
        </p:txBody>
      </p:sp>
      <p:sp>
        <p:nvSpPr>
          <p:cNvPr id="613"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7B6D-EDAC-4FAC-829F-E7BA851C7687}"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455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La sociedad de “componentes” y el IVA</a:t>
            </a:r>
            <a:endParaRPr b="0" lang="en-US" sz="3300" spc="-1" strike="noStrike">
              <a:solidFill>
                <a:srgbClr val="88a44d"/>
              </a:solidFill>
              <a:latin typeface="Georgia"/>
            </a:endParaRPr>
          </a:p>
        </p:txBody>
      </p:sp>
      <p:sp>
        <p:nvSpPr>
          <p:cNvPr id="693" name=""/>
          <p:cNvSpPr txBox="1"/>
          <p:nvPr/>
        </p:nvSpPr>
        <p:spPr>
          <a:xfrm>
            <a:off x="301320" y="1527120"/>
            <a:ext cx="8504280" cy="457200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Coop. de Trabajo Trans. Automotores Cuyo TAC” CCAF, Sala V del 4/8/11</a:t>
            </a:r>
            <a:endParaRPr b="0" lang="en-US" sz="2000" spc="-1" strike="noStrike">
              <a:solidFill>
                <a:srgbClr val="000000"/>
              </a:solidFill>
              <a:latin typeface="Georgia"/>
            </a:endParaRPr>
          </a:p>
          <a:p>
            <a:pPr marL="272880" indent="-272880">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De acuerdo a las características de la actora (la figura societaria “sociedad de componentes”) y conforme a los fundamentos del Dictamen DAT N° 23/98, se entiende que el suministro de repuestos, accesorios, combustibles, lubricantes, reparaciones y los demás servicios enunciados en la citada providencia se consideran marginados de la imposición del Impuesto al Valor. Agregado, situación que conlleva a revocar la determinación de oficio que realizó el Fisco Nacional. </a:t>
            </a:r>
            <a:endParaRPr b="0" lang="en-US" sz="2400" spc="-1" strike="noStrike">
              <a:solidFill>
                <a:srgbClr val="000000"/>
              </a:solidFill>
              <a:latin typeface="Georgia"/>
            </a:endParaRPr>
          </a:p>
        </p:txBody>
      </p:sp>
      <p:sp>
        <p:nvSpPr>
          <p:cNvPr id="694"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C86E-4B9B-4AD2-99A6-2AD5FD0920FA}"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455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10253f"/>
                </a:solidFill>
                <a:latin typeface="Georgia"/>
              </a:rPr>
              <a:t>La multa por defraudación fiscal ARBA de agentes de recaudación (I)</a:t>
            </a:r>
            <a:endParaRPr b="0" lang="en-US" sz="3200" spc="-1" strike="noStrike">
              <a:solidFill>
                <a:srgbClr val="88a44d"/>
              </a:solidFill>
              <a:latin typeface="Georgia"/>
            </a:endParaRPr>
          </a:p>
        </p:txBody>
      </p:sp>
      <p:sp>
        <p:nvSpPr>
          <p:cNvPr id="696" name=""/>
          <p:cNvSpPr txBox="1"/>
          <p:nvPr/>
        </p:nvSpPr>
        <p:spPr>
          <a:xfrm>
            <a:off x="214200" y="1500120"/>
            <a:ext cx="8715600" cy="4572000"/>
          </a:xfrm>
          <a:prstGeom prst="rect">
            <a:avLst/>
          </a:prstGeom>
          <a:noFill/>
          <a:ln w="0">
            <a:noFill/>
          </a:ln>
        </p:spPr>
        <p:txBody>
          <a:bodyPr anchor="t">
            <a:normAutofit fontScale="97000"/>
          </a:bodyPr>
          <a:p>
            <a:pPr marL="264600" indent="-2646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Benigni, Cesar” TFA PBA, Sala III, 23/8/11</a:t>
            </a:r>
            <a:endParaRPr b="0" lang="en-US" sz="1800" spc="-1" strike="noStrike">
              <a:solidFill>
                <a:srgbClr val="000000"/>
              </a:solidFill>
              <a:latin typeface="Georgia"/>
            </a:endParaRPr>
          </a:p>
          <a:p>
            <a:pPr marL="264600" indent="-26460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Corresponde confirmar la multa por defraudación fiscal (Art. 54 inc b, CF) por haber depositado fuera de los plazos previstos para su vencimiento (23 días) las sumas percibidas como agente de recaudación en el IIBB Pcia. Bs. As.</a:t>
            </a:r>
            <a:endParaRPr b="0" lang="en-US" sz="1800" spc="-1" strike="noStrike">
              <a:solidFill>
                <a:srgbClr val="000000"/>
              </a:solidFill>
              <a:latin typeface="Georgia"/>
            </a:endParaRPr>
          </a:p>
          <a:p>
            <a:pPr marL="264600" indent="-264600">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Respecto a la interpretación de la figura de la “defraudación fiscal” de los agentes de recaudación, la Suprema Corte de la Provincia de Buenos Aires al fallar las causas B 49181 autos “Cosechas de Seguros Limitada”, sent del 28/11/1986; B 48.982 “Banco Oceánico Cooperativo Limitado”, sent. del 31/05/83; B. 49.314, sent. del 29/07/86, B. 49.984, “Cánepa Hnos. S.A.”, sent. del 05/08/86; B. 49.383, “Olano”, sent. Del 12/08/86; B. 49.498, “Don Alfredo”, sent. del 18/08/87, B. 49.328, “De Leo”, sent. del 22/03/88; ha reiterado en sus pronunciamientos que con la falta de entrega a su debido tiempo del dinero fiscal retenido, queda materializada la defraudación fiscal. Por lo tanto, como elemento subjetivo de la defraudación del agente de recaudación es suficiente que la voluntad de mantener el dinero fiscal en su poder se prolongue una vez vencido el plazo fijado para el depósito.</a:t>
            </a:r>
            <a:endParaRPr b="0" lang="en-US" sz="1800" spc="-1" strike="noStrike">
              <a:solidFill>
                <a:srgbClr val="000000"/>
              </a:solidFill>
              <a:latin typeface="Georgia"/>
            </a:endParaRPr>
          </a:p>
        </p:txBody>
      </p:sp>
      <p:sp>
        <p:nvSpPr>
          <p:cNvPr id="697"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3F63-1388-44C7-82F4-439146A50BD5}"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455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10253f"/>
                </a:solidFill>
                <a:latin typeface="Georgia"/>
              </a:rPr>
              <a:t>La multa por defraudación fiscal ARBA de agentes de recaudación (II)</a:t>
            </a:r>
            <a:endParaRPr b="0" lang="en-US" sz="3200" spc="-1" strike="noStrike">
              <a:solidFill>
                <a:srgbClr val="88a44d"/>
              </a:solidFill>
              <a:latin typeface="Georgia"/>
            </a:endParaRPr>
          </a:p>
        </p:txBody>
      </p:sp>
      <p:sp>
        <p:nvSpPr>
          <p:cNvPr id="699" name=""/>
          <p:cNvSpPr txBox="1"/>
          <p:nvPr/>
        </p:nvSpPr>
        <p:spPr>
          <a:xfrm>
            <a:off x="142560" y="1428840"/>
            <a:ext cx="8929800" cy="4572000"/>
          </a:xfrm>
          <a:prstGeom prst="rect">
            <a:avLst/>
          </a:prstGeom>
          <a:noFill/>
          <a:ln w="0">
            <a:noFill/>
          </a:ln>
        </p:spPr>
        <p:txBody>
          <a:bodyPr anchor="t">
            <a:normAutofit fontScale="91000"/>
          </a:bodyPr>
          <a:p>
            <a:pPr marL="163080" indent="-16308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Verificado el incumplimiento material —elemento objetivo— del deber de ingresar en término el impuesto percibido, habida cuenta que la infracción específica de estos agentes requiere que la percepción se haya realizado en forma real, se pone de manifiesto que según lo resuelto por este Tribunal en autos “Cooperativa Agrícola Ltda. de Conesa” (sentencia del 2 de septiembre de 1981)—, el ingreso fuera de término de los tributos retenidos o percibidos crea una razonable presunción de que se ha dado el elemento intencional propio de la figura, presunción que puede ser desvirtuada por las pruebas que aporte el imputado o, en su caso, por las constancias obrantes en la causa. Consecuentemente se admite la posibilidad de declarar la inexistencia de dolo en el responsable retenedor en casos o situaciones que deberán ser analizadas con rigurosa prolijidad. erificado el incumplimiento material —elemento objetivo— del deber de ingresar en término el impuesto percibido, habida cuenta que la infracción específica de estos agentes requiere que la percepción se haya realizado en forma real, se pone de manifiesto que —siguiendo el criterio expuesto por Héctor B. Villegas (“Los agentes de retención y de percepción en Derecho Tributario”, Ed. Depalma, Bs. As., 1976, Pág. 170) y Carlos M. Giulian Fonrouge (“Derecho Financiero”, Ed. Depalma, 3° ed., Vol. II, págs. 602 y 603) y lo resuelto por este Tribunal en autos “Cooperativa Agrícola Ltda. de Conesa” (sentencia del 2 de septiembre de 1981)—, el ingreso fuera de término de los tributos retenidos o percibidos crea una razonable presunción de que se ha dado el elemento intencional propio de la figura, presunción que puede ser desvirtuada por las pruebas que aporte el imputado o, en su caso, por las constancias obrantes en la causa. Consecuentemente se admite la posibilidad de declarar la inexistencia de dolo en el responsable retenedor en casos o situaciones que deberán ser analizadas con rigurosa prolijidad. </a:t>
            </a:r>
            <a:endParaRPr b="0" lang="en-US" sz="1300" spc="-1" strike="noStrike">
              <a:solidFill>
                <a:srgbClr val="000000"/>
              </a:solidFill>
              <a:latin typeface="Georgia"/>
            </a:endParaRPr>
          </a:p>
          <a:p>
            <a:pPr marL="163080" indent="-16308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El recurrente no ha logrado acreditar la inexistencia del elemento subjetivo propio del tipo infraccional imputado, respecto del período fiscal en cuestión, a partir de aportar algún elemento atendible que permita eximir su responsabilidad, máxime cuando el acto administrativo por medio del que se aplica  sanción —-en su condición de tal— goza de presunción de legitimidad, lo que así se declara.</a:t>
            </a:r>
            <a:endParaRPr b="0" lang="en-US" sz="1300" spc="-1" strike="noStrike">
              <a:solidFill>
                <a:srgbClr val="000000"/>
              </a:solidFill>
              <a:latin typeface="Georgia"/>
            </a:endParaRPr>
          </a:p>
          <a:p>
            <a:pPr marL="163080" indent="-16308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Por todo lo expuesto, debe confirmarse la calificación que de la conducta ha realizado la Autoridad de Aplicación, por cuanto ha quedado configurada la defraudación, conducta prevista —como se adelantó— en el inc. “b” del artículo 62 del Código Fiscal (—t.o. 2011— art. 54 inc. b del t.o. 2004), en sus aspectos tanto subjetivo como objetivo.</a:t>
            </a:r>
            <a:endParaRPr b="0" lang="en-US" sz="1300" spc="-1" strike="noStrike">
              <a:solidFill>
                <a:srgbClr val="000000"/>
              </a:solidFill>
              <a:latin typeface="Georgia"/>
            </a:endParaRPr>
          </a:p>
        </p:txBody>
      </p:sp>
      <p:sp>
        <p:nvSpPr>
          <p:cNvPr id="700"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2DA4-AF4A-4512-A7AF-3DE0C1E5103E}"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Presunción de legitimidad de las estimaciones de oficio</a:t>
            </a:r>
            <a:endParaRPr b="0" lang="en-US" sz="3300" spc="-1" strike="noStrike">
              <a:solidFill>
                <a:srgbClr val="88a44d"/>
              </a:solidFill>
              <a:latin typeface="Georgia"/>
            </a:endParaRPr>
          </a:p>
        </p:txBody>
      </p:sp>
      <p:sp>
        <p:nvSpPr>
          <p:cNvPr id="702"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Causa: “Banco de La Pampa” TFN, Sala “D” del 13/9/2011</a:t>
            </a:r>
            <a:endParaRPr b="0" lang="en-US" sz="2700" spc="-1" strike="noStrike">
              <a:solidFill>
                <a:srgbClr val="000000"/>
              </a:solidFill>
              <a:latin typeface="Georgia"/>
            </a:endParaRPr>
          </a:p>
          <a:p>
            <a:pPr marL="261720" indent="-26172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eorgia"/>
              </a:rPr>
              <a:t>Cuando las declaraciones de los contribuyentes no se hallan respaldadas por pruebas categóricas, las estimaciones de oficio o liquidaciones de impuestos practicadas por el Fisco gozan, en principio, de legitimidad e incumbe a quien los impugna la demostración intergiversable de los hechos por lo que, en estos casos, rigen reglas distintas sobre la carga de la prueba, con relación a las aplicadas en los demás juicios.</a:t>
            </a:r>
            <a:endParaRPr b="0" lang="en-US" sz="2700" spc="-1" strike="noStrike">
              <a:solidFill>
                <a:srgbClr val="000000"/>
              </a:solidFill>
              <a:latin typeface="Georgia"/>
            </a:endParaRPr>
          </a:p>
        </p:txBody>
      </p:sp>
      <p:sp>
        <p:nvSpPr>
          <p:cNvPr id="703"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CFA3-9843-450F-BFBC-2C619F3744D3}"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52704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10253f"/>
                </a:solidFill>
                <a:latin typeface="Georgia"/>
              </a:rPr>
              <a:t>La carga de la prueba en materia tributaria</a:t>
            </a:r>
            <a:endParaRPr b="0" lang="en-US" sz="3600" spc="-1" strike="noStrike">
              <a:solidFill>
                <a:srgbClr val="88a44d"/>
              </a:solidFill>
              <a:latin typeface="Georgia"/>
            </a:endParaRPr>
          </a:p>
        </p:txBody>
      </p:sp>
      <p:sp>
        <p:nvSpPr>
          <p:cNvPr id="705" name=""/>
          <p:cNvSpPr txBox="1"/>
          <p:nvPr/>
        </p:nvSpPr>
        <p:spPr>
          <a:xfrm>
            <a:off x="301320" y="1527120"/>
            <a:ext cx="8504280" cy="457200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Agencia de Seguridad e Informaciones Fabril de Rosario Asifar SRL” TFN, Sala “A”, 8/7/2011</a:t>
            </a:r>
            <a:endParaRPr b="0" lang="en-US" sz="2000" spc="-1" strike="noStrike">
              <a:solidFill>
                <a:srgbClr val="000000"/>
              </a:solidFill>
              <a:latin typeface="Georgia"/>
            </a:endParaRPr>
          </a:p>
          <a:p>
            <a:pPr marL="272880" indent="-272880">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La carga de la prueba es correlativa a la carga de la proposición de los hechos (Art. 377, CPCCN). Por lo tanto, cada parte debe probar el presupuesto de hecho de las normas que invoque, como soporte de su pretensión, defensa o excepción.</a:t>
            </a:r>
            <a:endParaRPr b="0" lang="en-US" sz="2800" spc="-1" strike="noStrike">
              <a:solidFill>
                <a:srgbClr val="000000"/>
              </a:solidFill>
              <a:latin typeface="Georgia"/>
            </a:endParaRPr>
          </a:p>
        </p:txBody>
      </p:sp>
      <p:sp>
        <p:nvSpPr>
          <p:cNvPr id="706"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98D4-1A10-4E91-9C17-3A7823CBD38C}"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428400"/>
            <a:ext cx="85345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10253f"/>
                </a:solidFill>
                <a:latin typeface="Georgia"/>
              </a:rPr>
              <a:t>Improcedencia de la pretensión de ARBA del impuesto de sellos sobre un permiso de explotación de transporte interjurisdiccional</a:t>
            </a:r>
            <a:endParaRPr b="0" lang="en-US" sz="2000" spc="-1" strike="noStrike">
              <a:solidFill>
                <a:srgbClr val="88a44d"/>
              </a:solidFill>
              <a:latin typeface="Georgia"/>
            </a:endParaRPr>
          </a:p>
        </p:txBody>
      </p:sp>
      <p:sp>
        <p:nvSpPr>
          <p:cNvPr id="708" name=""/>
          <p:cNvSpPr txBox="1"/>
          <p:nvPr/>
        </p:nvSpPr>
        <p:spPr>
          <a:xfrm>
            <a:off x="214200" y="1527120"/>
            <a:ext cx="8591760" cy="4572000"/>
          </a:xfrm>
          <a:prstGeom prst="rect">
            <a:avLst/>
          </a:prstGeom>
          <a:noFill/>
          <a:ln w="0">
            <a:noFill/>
          </a:ln>
        </p:spPr>
        <p:txBody>
          <a:bodyPr anchor="t">
            <a:normAutofit fontScale="92000"/>
          </a:bodyPr>
          <a:p>
            <a:pPr marL="250920" indent="-2509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Transportes Automotores Plusmar SA c/Pcia. Bs. As. CSN, 25/10/11</a:t>
            </a:r>
            <a:endParaRPr b="0" lang="en-US" sz="1400" spc="-1" strike="noStrike">
              <a:solidFill>
                <a:srgbClr val="000000"/>
              </a:solidFill>
              <a:latin typeface="Georgia"/>
            </a:endParaRPr>
          </a:p>
          <a:p>
            <a:pPr marL="250920" indent="-2509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cuestión de fondo consiste en resolver si la Provincia de Buenos Aires, en ejercicio de su potestad tributaria, y según la previsión contenida en los arts. 214, 215, inciso b, y concordantes del Código Fiscal local, puede gravar con el impuesto de sellos el permiso de explotación instrumentado el 21 de julio de 1995 por la Secretaría de Transporte del Ministerio de Economía y Obras y Servicios Públicos de la Nación, a través del cual le otorgó el servicio correspondiente a la empresa Transportes Automotores Plusmar S.A. para realizar el transporte público de pasajeros y afines de carácter interjurisdiccional.</a:t>
            </a:r>
            <a:endParaRPr b="0" lang="en-US" sz="1400" spc="-1" strike="noStrike">
              <a:solidFill>
                <a:srgbClr val="000000"/>
              </a:solidFill>
              <a:latin typeface="Georgia"/>
            </a:endParaRPr>
          </a:p>
          <a:p>
            <a:pPr marL="250920" indent="-2509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s cuestiones planteadas son sustancialmente análogas a las examinadas y resueltas por este Tribunal en las causas "Línea 22 S.A. c/Buenos Aires, Provincia de" (Fallos: 333:538); "Empresa de Transportes Microómnibus Sáenz Peña S.R.L. c/Buenos Aires, Provincia de" (Fallos: 331:400); "Expreso Lomas Sociedad Anónima c/Buenos Aires, Provincia de" (Fallos: 331:337); "Aguas Argentinas S.A. c/Buenos Aires, Provincia de" (Fallos: 331:310); E.232.XXXIX "El Nuevo Halcón Sociedad Anónima c/Buenos Aires, Provincia de s/acción    declarativa de </a:t>
            </a:r>
            <a:r>
              <a:rPr b="0" lang="es-ES_tradnl" sz="1400" spc="-1" strike="noStrike">
                <a:solidFill>
                  <a:srgbClr val="000000"/>
                </a:solidFill>
                <a:latin typeface="Georgia"/>
              </a:rPr>
              <a:t>inconstitucionalidad"; E.39.XL "Empresa de Transportes Pedro de Mendoza C.I.S.A. c/ Buenos Aires, Provincia de s/ acción declarativa de inconstitucionalidad" y U.40.XL "Unión de Transportistas de Empresas S.A. - Línea 46 c/Buenos Aires, Provincia de s/acción declarativa de inconstitucionalidad", sentencias del 27 de abril de 2010, respectivamente, a cuyos fundamentos y conclusiones allí expuestos corresponde remitir en razón de brevedad.</a:t>
            </a:r>
            <a:endParaRPr b="0" lang="en-US" sz="1400" spc="-1" strike="noStrike">
              <a:solidFill>
                <a:srgbClr val="000000"/>
              </a:solidFill>
              <a:latin typeface="Georgia"/>
            </a:endParaRPr>
          </a:p>
          <a:p>
            <a:pPr marL="250920" indent="-25092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eorgia"/>
              </a:rPr>
              <a:t>Por ello, concordemente con lo dictaminado por la señora Procuradora Fiscal, se decide: Hacer lugar a la demanda iniciada por Transportes Automotores Plusmar S.A. contra la Provincia de Buenos Aires y, en consecuencia, declarar la improcedencia de la pretensión fiscal de la demandada con relación al permiso de concesión objeto del litigio. Con costas.</a:t>
            </a:r>
            <a:endParaRPr b="0" lang="en-US" sz="1400" spc="-1" strike="noStrike">
              <a:solidFill>
                <a:srgbClr val="000000"/>
              </a:solidFill>
              <a:latin typeface="Georgia"/>
            </a:endParaRPr>
          </a:p>
        </p:txBody>
      </p:sp>
      <p:sp>
        <p:nvSpPr>
          <p:cNvPr id="709"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219B-5266-422A-8671-E977EECE8036}"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357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10253f"/>
                </a:solidFill>
                <a:latin typeface="Georgia"/>
              </a:rPr>
              <a:t>Procedencia de la acción declarativa de inconstitucionalidad respecto del impuesto de sellos Pcia. Bs. As. en un permiso de explotación de transporte interjurisdiccional</a:t>
            </a:r>
            <a:endParaRPr b="0" lang="en-US" sz="2000" spc="-1" strike="noStrike">
              <a:solidFill>
                <a:srgbClr val="88a44d"/>
              </a:solidFill>
              <a:latin typeface="Georgia"/>
            </a:endParaRPr>
          </a:p>
        </p:txBody>
      </p:sp>
      <p:sp>
        <p:nvSpPr>
          <p:cNvPr id="711" name=""/>
          <p:cNvSpPr txBox="1"/>
          <p:nvPr/>
        </p:nvSpPr>
        <p:spPr>
          <a:xfrm>
            <a:off x="142920" y="1428840"/>
            <a:ext cx="8858160" cy="4572000"/>
          </a:xfrm>
          <a:prstGeom prst="rect">
            <a:avLst/>
          </a:prstGeom>
          <a:noFill/>
          <a:ln w="0">
            <a:noFill/>
          </a:ln>
        </p:spPr>
        <p:txBody>
          <a:bodyPr anchor="t">
            <a:normAutofit fontScale="91000"/>
          </a:bodyPr>
          <a:p>
            <a:pPr marL="248040" indent="-2480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Transportes Automotores Plusmar SA c/Pcia. Bs. As.” CSN, 25/10/11</a:t>
            </a:r>
            <a:endParaRPr b="0" lang="en-US" sz="1200" spc="-1" strike="noStrike">
              <a:solidFill>
                <a:srgbClr val="000000"/>
              </a:solidFill>
              <a:latin typeface="Georgia"/>
            </a:endParaRPr>
          </a:p>
          <a:p>
            <a:pPr marL="248040" indent="-24804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Este juicio es la competencia originaria de la CSN (Art. 116 y 117 CN) y se hallan reunidos los recaudos del Art. 322 CPCCN.</a:t>
            </a:r>
            <a:endParaRPr b="0" lang="en-US" sz="1300" spc="-1" strike="noStrike">
              <a:solidFill>
                <a:srgbClr val="000000"/>
              </a:solidFill>
              <a:latin typeface="Georgia"/>
            </a:endParaRPr>
          </a:p>
          <a:p>
            <a:pPr marL="248040" indent="-24804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La declaración de certeza, en tanto no tenga carácter simplemente consultivo, no importe una indagación meramente especulativa y responda a un “caso” que busque precaver los efectos de un acto en ciernes, al que se atribuye ilegitimidad y lesión al régimen federal, constituye causa en los términos de la Ley Fundamental (Fallos: 308:2569; 310:606 y 977; 311:421, entre otros). Sobre la base de estas premisas, se encuentran reunidos los requisitos establecidos por el art. 322 del CPCCN, pues ha mediado una actividad explícita de la Dirección Provincial de Rentas de la demandada, dirigida a la “percepción” del impuesto que estima adeudado. En efecto, la resolución requerimiento a los que la actora le atribuye ilegitimidad y lesión al régimen federal—, representan una conducta explícita de la Dirección Provincial de Rentas dirigida a la percepción del impuesto adeudado (Fallos: 311:421, considerando 3° y 328:4198, considerando 3°). </a:t>
            </a:r>
            <a:endParaRPr b="0" lang="en-US" sz="1300" spc="-1" strike="noStrike">
              <a:solidFill>
                <a:srgbClr val="000000"/>
              </a:solidFill>
              <a:latin typeface="Georgia"/>
            </a:endParaRPr>
          </a:p>
          <a:p>
            <a:pPr marL="248040" indent="-24804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Como claramente advirtió V.E. en Fallos: 310:606 (cons. 5°), la admisión de que concurren en la especie los presupuestos de la acción meramente declarativa, en especial el estado de incertidumbre respecto de los alcances de la relación jurídica concreta y del interés suficiente en el accionante, constituye el primer obstáculo a la viabilidad de la defensa intentada por la demandada. En efecto, dentro de ese marco, la exigencia de tramitar la vía administrativa y el pago previo de lo que constituye el objeto de la discusión —en la forma requerida por el art. 19 de la ley 12.008 como condición para el acceso a la instancia judicial— implicaría desconocer la necesidad de tutela judicial inmediata que, en casos como el presente, tiende a dilucidar el estado de falta de certeza entre el contribuyente que cuestiona la actitud del Estado y este último. </a:t>
            </a:r>
            <a:endParaRPr b="0" lang="en-US" sz="1300" spc="-1" strike="noStrike">
              <a:solidFill>
                <a:srgbClr val="000000"/>
              </a:solidFill>
              <a:latin typeface="Georgia"/>
            </a:endParaRPr>
          </a:p>
          <a:p>
            <a:pPr marL="248040" indent="-24804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Por otra parte, no puede obviarse que la presente demanda corresponde a la competencia originaria del Tribunal que —por provenir de la Constitución— no puede quedar subordinada al cumplimiento de los requisitos exigidos por las leyes locales (Fallos: 323:1206, cons. 2°, entre otros). </a:t>
            </a:r>
            <a:endParaRPr b="0" lang="en-US" sz="1300" spc="-1" strike="noStrike">
              <a:solidFill>
                <a:srgbClr val="000000"/>
              </a:solidFill>
              <a:latin typeface="Georgia"/>
            </a:endParaRPr>
          </a:p>
          <a:p>
            <a:pPr marL="248040" indent="-248040">
              <a:spcBef>
                <a:spcPts val="326"/>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u="sng">
                <a:solidFill>
                  <a:srgbClr val="000000"/>
                </a:solidFill>
                <a:uFillTx/>
                <a:latin typeface="Georgia"/>
              </a:rPr>
              <a:t>Nota</a:t>
            </a:r>
            <a:r>
              <a:rPr b="0" lang="es-AR" sz="1300" spc="-1" strike="noStrike">
                <a:solidFill>
                  <a:srgbClr val="000000"/>
                </a:solidFill>
                <a:latin typeface="Georgia"/>
              </a:rPr>
              <a:t>: fundamentos del Dictamen de la Procuradora Fiscal del 9/8/10</a:t>
            </a:r>
            <a:endParaRPr b="0" lang="en-US" sz="1300" spc="-1" strike="noStrike">
              <a:solidFill>
                <a:srgbClr val="000000"/>
              </a:solidFill>
              <a:latin typeface="Georgia"/>
            </a:endParaRPr>
          </a:p>
        </p:txBody>
      </p:sp>
      <p:sp>
        <p:nvSpPr>
          <p:cNvPr id="712"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ACE2-54E9-472B-A4BA-9B3671B1DC56}"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85840" y="5270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0253f"/>
                </a:solidFill>
                <a:latin typeface="Georgia"/>
              </a:rPr>
              <a:t>La cesión del derecho de uso de espacios en bienes del dominio público afectados a una concesión en el IVA (II)</a:t>
            </a:r>
            <a:endParaRPr b="0" lang="en-US" sz="2400" spc="-1" strike="noStrike">
              <a:solidFill>
                <a:srgbClr val="88a44d"/>
              </a:solidFill>
              <a:latin typeface="Georgia"/>
            </a:endParaRPr>
          </a:p>
        </p:txBody>
      </p:sp>
      <p:sp>
        <p:nvSpPr>
          <p:cNvPr id="615" name=""/>
          <p:cNvSpPr txBox="1"/>
          <p:nvPr/>
        </p:nvSpPr>
        <p:spPr>
          <a:xfrm>
            <a:off x="142920" y="1500120"/>
            <a:ext cx="8858160" cy="4572000"/>
          </a:xfrm>
          <a:prstGeom prst="rect">
            <a:avLst/>
          </a:prstGeom>
          <a:noFill/>
          <a:ln w="0">
            <a:noFill/>
          </a:ln>
        </p:spPr>
        <p:txBody>
          <a:bodyPr anchor="t">
            <a:normAutofit fontScale="95000"/>
          </a:bodyPr>
          <a:p>
            <a:pPr marL="259200" indent="-2592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tal inteligencia precisó que la disposición del art. 8º del decreto reglamentario de la ley (decreto 692/98) en cuanto considera comprendidas entre tales locaciones o prestaciones a “las transferencias o cesiones del uso o goce de derechos … cuando las mismas impliquen … una concesión de explotación industrial o comercial” importaba una confirmación del criterio interpretativo seguido por ese tribunal, al estarse frente a una cesión de derechos que implicaba una concesión de explotación comercial.</a:t>
            </a:r>
            <a:endParaRPr b="0" lang="en-US" sz="1400" spc="-1" strike="noStrike">
              <a:solidFill>
                <a:srgbClr val="000000"/>
              </a:solidFill>
              <a:latin typeface="Georgia"/>
            </a:endParaRPr>
          </a:p>
          <a:p>
            <a:pPr marL="259200" indent="-2592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ara fundar la revocación de las sanciones, señaló que aunque se había verificado el aspecto objetivo de las infracciones, el contribuyente pudo creer razonablemente que los contratos se encontraban exentos en virtud de las particularidades del caso, de los términos empleados en dichos contratos y su compleja caracterización jurídica.</a:t>
            </a:r>
            <a:endParaRPr b="0" lang="en-US" sz="1400" spc="-1" strike="noStrike">
              <a:solidFill>
                <a:srgbClr val="000000"/>
              </a:solidFill>
              <a:latin typeface="Georgia"/>
            </a:endParaRPr>
          </a:p>
          <a:p>
            <a:pPr marL="259200" indent="-2592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Sala II de la Cámara Nacional de Apelaciones en lo Contencioso Administrativo Federal confirmó, en lo sustancial, la sentencia del Tribunal Fiscal de la Nación, considerando que la actora no había logrado desvirtuar el fundamento relativo a que el derecho de celebrar acuerdos con terceros, derivado del contrato de concesión, no importaba que se repitiera dicha figura jurídica ni que su régimen legal resulte aplicable a tales convenios. De ese modo, coincidió con el Tribunal Fiscal en examinar la cuestión a partir de las disposiciones del contrato de concesión; y al respecto precisó que los términos y cláusulas convencionales no resultaban por sí solas suficientes para definir la naturaleza jurídica de tales contratos ni para aplicarles un régimen jurídico especial como el previsto para las concesiones . </a:t>
            </a:r>
            <a:endParaRPr b="0" lang="en-US" sz="1400" spc="-1" strike="noStrike">
              <a:solidFill>
                <a:srgbClr val="000000"/>
              </a:solidFill>
              <a:latin typeface="Georgia"/>
            </a:endParaRPr>
          </a:p>
          <a:p>
            <a:pPr marL="259200" indent="-2592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lo relativo a la multa y los intereses resarcitorios consideró que la complejidad de la cuestión le impedía tener por configurado el elemento subjetivo para la configuración de la mora y la aplicación de sanciones. En consecuencia, no sólo confirmó la eximición de las multas dispuesta en la instancia anterior sino que además revocó lo resuelto en cuanto a la aplicación de los intereses resarcitorios.</a:t>
            </a:r>
            <a:endParaRPr b="0" lang="en-US" sz="1400" spc="-1" strike="noStrike">
              <a:solidFill>
                <a:srgbClr val="000000"/>
              </a:solidFill>
              <a:latin typeface="Georgia"/>
            </a:endParaRPr>
          </a:p>
        </p:txBody>
      </p:sp>
      <p:sp>
        <p:nvSpPr>
          <p:cNvPr id="616"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433C-C0DC-434A-A652-EEE2137A63E5}"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85840" y="527040"/>
            <a:ext cx="853416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0253f"/>
                </a:solidFill>
                <a:latin typeface="Georgia"/>
              </a:rPr>
              <a:t>La cesión del derecho de uso de espacios en bienes del dominio público afectados a una concesión en el IVA (III)</a:t>
            </a:r>
            <a:endParaRPr b="0" lang="en-US" sz="2400" spc="-1" strike="noStrike">
              <a:solidFill>
                <a:srgbClr val="88a44d"/>
              </a:solidFill>
              <a:latin typeface="Georgia"/>
            </a:endParaRPr>
          </a:p>
        </p:txBody>
      </p:sp>
      <p:sp>
        <p:nvSpPr>
          <p:cNvPr id="618" name=""/>
          <p:cNvSpPr txBox="1"/>
          <p:nvPr/>
        </p:nvSpPr>
        <p:spPr>
          <a:xfrm>
            <a:off x="142920" y="1428480"/>
            <a:ext cx="8858160" cy="5143320"/>
          </a:xfrm>
          <a:prstGeom prst="rect">
            <a:avLst/>
          </a:prstGeom>
          <a:noFill/>
          <a:ln w="0">
            <a:noFill/>
          </a:ln>
        </p:spPr>
        <p:txBody>
          <a:bodyPr anchor="t">
            <a:normAutofit fontScale="99000"/>
          </a:bodyPr>
          <a:p>
            <a:pPr marL="270000" indent="-2700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exención prevista por la ley del IVA (Art. 7, inc h, ap 23), en cuanto exime al otorgamiento de concesiones, debe entenderse que se refieren a las regulaciones y contrataciones propias provenientes del Estado, en atención al debate parlamentario de la ley 23871, lo cual fue dispuesto por el Art. 39 del Dto. 692/98.</a:t>
            </a:r>
            <a:endParaRPr b="0" lang="en-US" sz="1400" spc="-1" strike="noStrike">
              <a:solidFill>
                <a:srgbClr val="000000"/>
              </a:solidFill>
              <a:latin typeface="Georgia"/>
            </a:endParaRPr>
          </a:p>
          <a:p>
            <a:pPr marL="270000" indent="-2700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lo tanto, cabe concluir que al tratarse de instrumentos en los que no es parte interviniente el Estado, no resulta aplicable a su respecto la referida exención. </a:t>
            </a:r>
            <a:endParaRPr b="0" lang="en-US" sz="1400" spc="-1" strike="noStrike">
              <a:solidFill>
                <a:srgbClr val="000000"/>
              </a:solidFill>
              <a:latin typeface="Georgia"/>
            </a:endParaRPr>
          </a:p>
          <a:p>
            <a:pPr marL="270000" indent="-2700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lo no obstante, resultan atendibles los restantes agravios de la actora en cuanto refiere que la gravabilidad de la cesión de derechos depende, entonces, de que por la naturaleza de los derechos en cuestión estén o no incluidos en el campo de imposición del IVA o deriven de prestaciones exentas (conf. fs. 377 vta.). </a:t>
            </a:r>
            <a:endParaRPr b="0" lang="en-US" sz="1400" spc="-1" strike="noStrike">
              <a:solidFill>
                <a:srgbClr val="000000"/>
              </a:solidFill>
              <a:latin typeface="Georgia"/>
            </a:endParaRPr>
          </a:p>
          <a:p>
            <a:pPr marL="270000" indent="-2700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rresponde destacar que el TFN sostuvo que las referidas cesiones de derechos se encontraban comprendidas entre las restantes locaciones y prestaciones gravadas a que alude el art. 3º, inc. e, apartado 21 de la ley (t.o. en 1997 y sus modificaciones), aunque omitió considerar que la norma expresamente establece que ello ocurre “[c]uando se trata de locaciones o prestaciones gravadas [situación en la que también] quedan comprendidos los servicios conexos o relacionados con ellos y las transferencias o cesiones del uso o goce de derechos de la propiedad intelectual, industrial o comercial …” , lo que no ocurre en el caso de autos puesto que la concesión otorgada por el Estado Nacional a Metrovías S.A. —locación o prestación principal de donde surgen las cesiones de derechos en cuestión— está exenta del gravamen (conf. ley cit., art. 7º, inc. h), ap. 23 ley cit.; considerandos 8º y 9º de la presente sentencia). </a:t>
            </a:r>
            <a:endParaRPr b="0" lang="en-US" sz="1400" spc="-1" strike="noStrike">
              <a:solidFill>
                <a:srgbClr val="000000"/>
              </a:solidFill>
              <a:latin typeface="Georgia"/>
            </a:endParaRPr>
          </a:p>
          <a:p>
            <a:pPr marL="270000" indent="-270000">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cesión del derecho de uso de espacios en bienes del dominio público afectados a la concesión del servicio de transporte ferroviario de pasajeros, como la cesión del derecho de su explotación comercial, se encuentran al margen del objeto del impuesto al valor agregado. </a:t>
            </a:r>
            <a:endParaRPr b="0" lang="en-US" sz="1400" spc="-1" strike="noStrike">
              <a:solidFill>
                <a:srgbClr val="000000"/>
              </a:solidFill>
              <a:latin typeface="Georgia"/>
            </a:endParaRPr>
          </a:p>
        </p:txBody>
      </p:sp>
      <p:sp>
        <p:nvSpPr>
          <p:cNvPr id="619"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B02-D762-4D88-A0B4-1227D2ED6F0A}"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3840" y="21420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Requisitos para la procedencia de la responsabilidad solidaria (I)</a:t>
            </a:r>
            <a:endParaRPr b="0" lang="en-US" sz="3300" spc="-1" strike="noStrike">
              <a:solidFill>
                <a:srgbClr val="88a44d"/>
              </a:solidFill>
              <a:latin typeface="Georgia"/>
            </a:endParaRPr>
          </a:p>
        </p:txBody>
      </p:sp>
      <p:sp>
        <p:nvSpPr>
          <p:cNvPr id="621" name=""/>
          <p:cNvSpPr txBox="1"/>
          <p:nvPr/>
        </p:nvSpPr>
        <p:spPr>
          <a:xfrm>
            <a:off x="301320" y="1428840"/>
            <a:ext cx="8504280" cy="4572000"/>
          </a:xfrm>
          <a:prstGeom prst="rect">
            <a:avLst/>
          </a:prstGeom>
          <a:noFill/>
          <a:ln w="0">
            <a:noFill/>
          </a:ln>
        </p:spPr>
        <p:txBody>
          <a:bodyPr anchor="t">
            <a:normAutofit fontScale="94000"/>
          </a:bodyPr>
          <a:p>
            <a:pPr marL="256320" indent="-2563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Bertran, Jaime Jansa” CCAF, Sala I, del 28/4/11</a:t>
            </a:r>
            <a:endParaRPr b="0" lang="en-US" sz="1400" spc="-1" strike="noStrike">
              <a:solidFill>
                <a:srgbClr val="000000"/>
              </a:solidFill>
              <a:latin typeface="Georgia"/>
            </a:endParaRPr>
          </a:p>
          <a:p>
            <a:pPr marL="256320" indent="-2563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Según surge del art. 8º, inc. a) de la ley 11.683, la responsabilidad del solidario nace sólo frente al incumplimiento del deudor principal a la intimación de pago cursada por el organismo recaudador, es decir que la falta de cumplimiento por parte del deudor principal a la intimación de pago cursada es el hecho que habilita al organismo fiscal a extender la responsabilidad del actor.</a:t>
            </a:r>
            <a:endParaRPr b="0" lang="en-US" sz="1600" spc="-1" strike="noStrike">
              <a:solidFill>
                <a:srgbClr val="000000"/>
              </a:solidFill>
              <a:latin typeface="Georgia"/>
            </a:endParaRPr>
          </a:p>
          <a:p>
            <a:pPr marL="256320" indent="-2563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La determinación de oficio cumplida respecto de aquel a quien se quiere hacer efectiva la responsabilidad solidaria sólo puede dictarse una vez vencido el plazo de la intimación de pago cursada al deudor principal, sólo a su expiración podrá tenerse por configurado el incumplimiento del deudor principal, que habilita "en forma subsidiaria, la extensión de la responsabilidad al responsable por deuda ajena", sin que se advierta obstáculo legal alguno para que el Fisco comience el procedimiento de determinación de oficio con el objeto de verificar la eventual responsabilidad personal y solidaria, aun antes de intimar de pago al deudor principal (Fallos: 327:769). </a:t>
            </a:r>
            <a:endParaRPr b="0" lang="en-US" sz="1600" spc="-1" strike="noStrike">
              <a:solidFill>
                <a:srgbClr val="000000"/>
              </a:solidFill>
              <a:latin typeface="Georgia"/>
            </a:endParaRPr>
          </a:p>
          <a:p>
            <a:pPr marL="256320" indent="-25632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Por lo tanto, debe revocarse la sentencia apelada, ya que no se encuentra discutido que se cumplió respecto del deudor principal la intimación administrativa, sin que fuera cancelada la deuda, y no invalida la resolución apelada la circunstancia de que se encontrare apelada la determinación del impuesto por parte del deudor principal a la fecha en que se emitió la pronunciamiento recurrido. </a:t>
            </a:r>
            <a:endParaRPr b="0" lang="en-US" sz="1600" spc="-1" strike="noStrike">
              <a:solidFill>
                <a:srgbClr val="000000"/>
              </a:solidFill>
              <a:latin typeface="Georgia"/>
            </a:endParaRPr>
          </a:p>
        </p:txBody>
      </p:sp>
      <p:sp>
        <p:nvSpPr>
          <p:cNvPr id="622"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D233-1AB1-46C1-A16F-A67C1D96813E}"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41200"/>
            <a:ext cx="853452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300" spc="-1" strike="noStrike">
                <a:solidFill>
                  <a:srgbClr val="10253f"/>
                </a:solidFill>
                <a:latin typeface="Georgia"/>
              </a:rPr>
              <a:t>Requisitos para la procedencia de la responsabilidad solidaria (II)</a:t>
            </a:r>
            <a:endParaRPr b="0" lang="en-US" sz="3300" spc="-1" strike="noStrike">
              <a:solidFill>
                <a:srgbClr val="88a44d"/>
              </a:solidFill>
              <a:latin typeface="Georgia"/>
            </a:endParaRPr>
          </a:p>
        </p:txBody>
      </p:sp>
      <p:sp>
        <p:nvSpPr>
          <p:cNvPr id="624" name=""/>
          <p:cNvSpPr txBox="1"/>
          <p:nvPr/>
        </p:nvSpPr>
        <p:spPr>
          <a:xfrm>
            <a:off x="301320" y="1428840"/>
            <a:ext cx="8504280" cy="4572000"/>
          </a:xfrm>
          <a:prstGeom prst="rect">
            <a:avLst/>
          </a:prstGeom>
          <a:noFill/>
          <a:ln w="0">
            <a:noFill/>
          </a:ln>
        </p:spPr>
        <p:txBody>
          <a:bodyPr anchor="t">
            <a:normAutofit fontScale="95000"/>
          </a:bodyPr>
          <a:p>
            <a:pPr marL="259200" indent="-25920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n embargo, ello no significa que la deuda sea exigible. En efecto, la redacción en forma condicional del art. 8º, inc. a) de la ley 11.683 supone que la deuda es exigible porque se encuentra firme, ya que mientras se discute resulta improcedente requerir el pago al solidario. La ley dispone llegar al solidario después que ha resultado infructuoso el reclamo al deudor principal, y para ello marca un orden secuencial a cumplir. El principio de legalidad hace que no se pueda exigir el pago del tributo al solidario mientras no lo haya hecho antes al principal, y esa deuda se encuentre firme e impaga (Conf. T.F.N., Sala D in re: "Rodi, Esther Susana" del 25/3/09).</a:t>
            </a:r>
            <a:endParaRPr b="0" lang="en-US" sz="1600" spc="-1" strike="noStrike">
              <a:solidFill>
                <a:srgbClr val="000000"/>
              </a:solidFill>
              <a:latin typeface="Georgia"/>
            </a:endParaRPr>
          </a:p>
          <a:p>
            <a:pPr marL="259200" indent="-25920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a AFIP DGI no podrá exigir el pago de la suma reclamada al deudor solidario, mientras que la deuda determinada al principal no se encuentre firme e impaga, debiendo mantenerse en suspenso la intimación, hasta tanto se verifique esa situación.</a:t>
            </a:r>
            <a:endParaRPr b="0" lang="en-US" sz="1600" spc="-1" strike="noStrike">
              <a:solidFill>
                <a:srgbClr val="000000"/>
              </a:solidFill>
              <a:latin typeface="Georgia"/>
            </a:endParaRPr>
          </a:p>
          <a:p>
            <a:pPr marL="259200" indent="-259200">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suelve: revocar la sentencia apelada, estableciendo que la AFIP DGI no podrá exigir el pago de la suma reclamada al deudor solidario mientras que la deuda determinada al deudor principal no se encuentre firme e impaga.</a:t>
            </a:r>
            <a:endParaRPr b="0" lang="en-US" sz="1600" spc="-1" strike="noStrike">
              <a:solidFill>
                <a:srgbClr val="000000"/>
              </a:solidFill>
              <a:latin typeface="Georgia"/>
            </a:endParaRPr>
          </a:p>
          <a:p>
            <a:pPr marL="259200" indent="-259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 spc="-1" strike="noStrike">
                <a:solidFill>
                  <a:srgbClr val="000000"/>
                </a:solidFill>
                <a:latin typeface="Georgia"/>
              </a:rPr>
              <a:t>	</a:t>
            </a:r>
            <a:endParaRPr b="0" lang="en-US" sz="500" spc="-1" strike="noStrike">
              <a:solidFill>
                <a:srgbClr val="000000"/>
              </a:solidFill>
              <a:latin typeface="Georg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En el mismo sentido: “Holding Marítima y Portuaria SA” CCAF, Sala III del 19/3/09, “Club Atlético Adelante” CCAF, Sala IV del 15/7/99 y “Prats Secundino” del 11/4/00.</a:t>
            </a:r>
            <a:endParaRPr b="0" lang="en-US" sz="1600" spc="-1" strike="noStrike">
              <a:solidFill>
                <a:srgbClr val="000000"/>
              </a:solidFill>
              <a:latin typeface="Georgia"/>
            </a:endParaRPr>
          </a:p>
          <a:p>
            <a:pPr marL="259200" indent="-259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En sentido contrario: “Ineragro SA” CCAF, Sala II del 17/7/07, “Troilo, Mauro Gustavo” del 12/6/07 y “Lapiduz, Benjamin” del 8/6/10.</a:t>
            </a:r>
            <a:endParaRPr b="0" lang="en-US" sz="1600" spc="-1" strike="noStrike">
              <a:solidFill>
                <a:srgbClr val="000000"/>
              </a:solidFill>
              <a:latin typeface="Georgia"/>
            </a:endParaRPr>
          </a:p>
        </p:txBody>
      </p:sp>
      <p:sp>
        <p:nvSpPr>
          <p:cNvPr id="625"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2218-79FD-4617-84C2-1EE3D7843F94}"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3571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10253f"/>
                </a:solidFill>
                <a:latin typeface="Georgia"/>
              </a:rPr>
              <a:t>Inconstitucionalidad del factor de convergencia creado por el Dto. 803/01</a:t>
            </a:r>
            <a:endParaRPr b="0" lang="en-US" sz="3200" spc="-1" strike="noStrike">
              <a:solidFill>
                <a:srgbClr val="88a44d"/>
              </a:solidFill>
              <a:latin typeface="Georgia"/>
            </a:endParaRPr>
          </a:p>
        </p:txBody>
      </p:sp>
      <p:sp>
        <p:nvSpPr>
          <p:cNvPr id="627" name=""/>
          <p:cNvSpPr txBox="1"/>
          <p:nvPr/>
        </p:nvSpPr>
        <p:spPr>
          <a:xfrm>
            <a:off x="70920" y="1428840"/>
            <a:ext cx="8929800" cy="5116320"/>
          </a:xfrm>
          <a:prstGeom prst="rect">
            <a:avLst/>
          </a:prstGeom>
          <a:noFill/>
          <a:ln w="0">
            <a:noFill/>
          </a:ln>
        </p:spPr>
        <p:txBody>
          <a:bodyPr anchor="t">
            <a:normAutofit fontScale="96000"/>
          </a:bodyPr>
          <a:p>
            <a:pPr marL="261720" indent="-26172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Georgia"/>
              </a:rPr>
              <a:t>Causa: “Jurado Golf SA” CSN, 1/11/11</a:t>
            </a:r>
            <a:endParaRPr b="0" lang="en-US" sz="11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En las operaciones de importación el mencionado factor de convergencia incidía de una manera diversa, puesto que su art. 5° estableció que los importadores "deberán ingresar simultáneamente a la nacionalización de los bienes que importen, el Factor de Convergencia (FC) multiplicado por el valor CIF de las importaciones que realicen valuadas en Dólares Estadounidenses".</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Con relación a los importadores, el monto a ingresar -calculado en función del factor de convergencia-  constituye, sin hesitación, una "contribución" en los términos de los arts. 4° y 17 de nuestra Constitución Nacional, de inocultable naturaleza tributaria, toda vez que se trata de una suma de dinero que obligatoriamente han de sufragar algunos sujetos pasivos -determinados por la norma-, en función de ciertas consideraciones de capacidad para contribuir, y que se halla destinada a la cobertura de gastos públicos.</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Dicho en otros términos, la norma define un presupuesto de hecho que, al  verificarse en la realidad del caso concreto, compele a ingresar al erario público una cantidad de dinero, en las condiciones establecidas por ella, siendo que tal obligación tiene por fuente un acto unilateral del Estado y que su cumplimiento se impone coactivamente a los particulares afectados, cuya voluntad carece, a esos efectos, de toda eficacia (arg. FaIlos: 318:676, considerando 8°).</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No puede sostenerse que tal contribución goce de cobertura legal suficiente ya que, en efecto, la ley 24.425 (invocada en los "vistos" del decreto 803/01) no crea detracción patrimonial coactiva alguna como la de que aquí se trata, ni autoriza su creación. Y, por otra parte, tampoco ello está contemplado en la órbita competencial habilitada para el Poder Ejecutivo Nacional por el inc. 1 ° del art. 99 de la Constitución Nacional (arg. Fallos: 182:410) .</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La norma ahora impugnada tiene un defecto de origen y que cuanto resulta írrita del principio de reserva legal, al contradecir los arts. 4°,17, 52, 75 (incs . 1º y 2°) y 99 (inc. 3°) de la Carta Magna (ver C.524, L.XLII, "Cladd Industria  Textil S.A. y otro cl E.N. SAGPYA - resol 91/03 si amparo ley 16.986", sentencia del 4 de agosto de 2009).</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Nos hallamos frente a un tributo que, más allá de su encuadramiento infraconstitucional, que no es relevante a los fines de este análisis (Fallos: 314:595, cons. 10°), ha sido establecido mediante un mecanismo que se halla claramente a extramuros de la única forma que nuestra Carta Magna prevé, es decir, mediante ley formal.</a:t>
            </a:r>
            <a:endParaRPr b="0" lang="en-US" sz="1200" spc="-1" strike="noStrike">
              <a:solidFill>
                <a:srgbClr val="000000"/>
              </a:solidFill>
              <a:latin typeface="Georgia"/>
            </a:endParaRPr>
          </a:p>
          <a:p>
            <a:pPr marL="261720" indent="-261720">
              <a:spcBef>
                <a:spcPts val="3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Georgia"/>
              </a:rPr>
              <a:t>No mejora la suerte del instituto en cuestión el hecho de atribuirle naturaleza meramente cambiaria pues, como ha dicho el Tribunal, ella actuaría, en casos como el del </a:t>
            </a:r>
            <a:r>
              <a:rPr b="0" i="1" lang="es-AR" sz="1200" spc="-1" strike="noStrike">
                <a:solidFill>
                  <a:srgbClr val="000000"/>
                </a:solidFill>
                <a:latin typeface="Georgia"/>
              </a:rPr>
              <a:t>sub lite, "al modo de un impuesto" o de "tributo atípico" (arg. </a:t>
            </a:r>
            <a:r>
              <a:rPr b="0" lang="es-AR" sz="1200" spc="-1" strike="noStrike">
                <a:solidFill>
                  <a:srgbClr val="000000"/>
                </a:solidFill>
                <a:latin typeface="Georgia"/>
              </a:rPr>
              <a:t>Fallos: 294:152, cons. 14 y 25).</a:t>
            </a:r>
            <a:endParaRPr b="0" lang="en-US" sz="1200" spc="-1" strike="noStrike">
              <a:solidFill>
                <a:srgbClr val="000000"/>
              </a:solidFill>
              <a:latin typeface="Georgia"/>
            </a:endParaRPr>
          </a:p>
        </p:txBody>
      </p:sp>
      <p:sp>
        <p:nvSpPr>
          <p:cNvPr id="628"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6CBB-EF43-47B4-A196-DF63548E836D}"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598320"/>
            <a:ext cx="853452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10253f"/>
                </a:solidFill>
                <a:latin typeface="Georgia"/>
              </a:rPr>
              <a:t>La sentencia del TFN en cuanto a la inexistencia del elemento objetivo no es vinculante en sede penal (I)</a:t>
            </a:r>
            <a:endParaRPr b="0" lang="en-US" sz="2600" spc="-1" strike="noStrike">
              <a:solidFill>
                <a:srgbClr val="88a44d"/>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fontScale="94000"/>
          </a:bodyPr>
          <a:p>
            <a:pPr marL="256320" indent="-256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Adanti Solazzi y Cía SA” CNAPE, Sala “B” del 23/8/11</a:t>
            </a:r>
            <a:endParaRPr b="0" lang="en-US" sz="1600" spc="-1" strike="noStrike">
              <a:solidFill>
                <a:srgbClr val="000000"/>
              </a:solidFill>
              <a:latin typeface="Georgia"/>
            </a:endParaRPr>
          </a:p>
          <a:p>
            <a:pPr marL="256320" indent="-256320">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i bien, como regla general, no cabe cuestionar la existencia de un delito por vía de la excepción que se prevé por el art. 339 inc. 2o del C.P.P.N. pues aquel extremo se vincula con la cuestión de fondo a ser examinada en el proceso principal, aquel principio reconoce una excepción cuando de los elementos de conocimiento surge, con total evidencia y de un modo indudable, la inexistencia del hecho ilícito (confr. Regs. Nos. 374/96, 395/99,  148/00, 982/02,  93/06, entre otros de esta Sala "B").</a:t>
            </a:r>
            <a:endParaRPr b="0" lang="en-US" sz="2000" spc="-1" strike="noStrike">
              <a:solidFill>
                <a:srgbClr val="000000"/>
              </a:solidFill>
              <a:latin typeface="Georgia"/>
            </a:endParaRPr>
          </a:p>
          <a:p>
            <a:pPr marL="256320" indent="-256320">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a sentencia del TFN invocada por el recurrente no resulta vinculante ni para el juzgado "a quo " ni para este Tribunal.</a:t>
            </a:r>
            <a:endParaRPr b="0" lang="en-US" sz="2000" spc="-1" strike="noStrike">
              <a:solidFill>
                <a:srgbClr val="000000"/>
              </a:solidFill>
              <a:latin typeface="Georgia"/>
            </a:endParaRPr>
          </a:p>
          <a:p>
            <a:pPr marL="256320" indent="-256320">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No resulta posible desconocer las atribuciones otorgadas a los jueces de la Nación por la Constitución Nacional, con relación a conocer y decidir en el marco de todas las causas que versen sobre puntos regidos por la Constitución Nacional y por las leyes de la Nación.</a:t>
            </a:r>
            <a:endParaRPr b="0" lang="en-US" sz="2000" spc="-1" strike="noStrike">
              <a:solidFill>
                <a:srgbClr val="000000"/>
              </a:solidFill>
              <a:latin typeface="Georgia"/>
            </a:endParaRPr>
          </a:p>
        </p:txBody>
      </p:sp>
      <p:sp>
        <p:nvSpPr>
          <p:cNvPr id="631" name="3 Marcador de número de diapositiva"/>
          <p:cNvSpPr/>
          <p:nvPr/>
        </p:nvSpPr>
        <p:spPr>
          <a:xfrm>
            <a:off x="435780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A67B-495F-4093-AA31-F71C104F99C1}" type="slidenum">
              <a:rPr b="1" lang="es-AR" sz="1100" spc="-1" strike="noStrike">
                <a:solidFill>
                  <a:srgbClr val="000000"/>
                </a:solidFill>
                <a:latin typeface="Georgia"/>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7:21:26Z</dcterms:created>
  <dc:creator>Nancy</dc:creator>
  <dc:description/>
  <dc:language>en-US</dc:language>
  <cp:lastModifiedBy>Nancy</cp:lastModifiedBy>
  <dcterms:modified xsi:type="dcterms:W3CDTF">2011-11-08T20:05:08Z</dcterms:modified>
  <cp:revision>68</cp:revision>
  <dc:subject/>
  <dc:title>RESEÑA DE JURISPRUDENCIA</dc:title>
</cp:coreProperties>
</file>